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0E6B016-2D26-462D-91A0-8BF6E263D11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CB7F66-537B-44D0-B708-A0B94DB36D5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06DC2C-113B-4F49-A108-A94D65373BC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826735-08AE-4CE0-856A-489AF9A673F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7C1300-EF44-4DB7-9613-78029F081D4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86215F-C5AB-4C18-9EED-28F76E26165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AD1587A-BF05-4EF6-9E1D-328998491C9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AE6-BF31-427D-BC13-7C77C841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501-056A-4A99-9959-5B89B844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26AB9F-B3B4-4E1E-91A6-03DE8EAF6F6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02656-5A38-45E7-BBC2-669E157F372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C50A98-29C1-45B0-A41A-D9B620CFF9F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DF4FB-6FFA-4F15-9F75-32AD011E087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B891F1-5D67-4CE6-BCCD-620411A056E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74E615-241F-449B-98F2-632A570AC65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866E8C-7441-4B39-8A78-532699C7269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353C1-44AD-4CF1-851D-9CB37E4F4B1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ED8161-FFAD-40A1-BC1A-B6A0013ACE8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8D0-26AD-4211-9EE0-94E6CA6B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3A0-8818-45ED-A494-A8579875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160-A9B3-48B3-B5DA-7B307277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EA327-CE02-40B8-B21A-5338FDCA91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503F3-E652-41A8-86CD-E4CB066854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E1BA6-6E0B-41E2-9D70-393DCFA863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2FD5E-29D5-47E6-A5DC-F52883A259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6846F-10B1-4126-AF12-0C9F50D96B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FD0-C1F8-4E67-980C-A004A8D3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5D9C3-6CB9-4DD2-ADF2-F900B3C63B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9FC4D-1774-4A33-886C-34A6DF3449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2B103-9800-4271-9CDF-6D0DBE2481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2A663-4B05-414C-848D-4408DDA04C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D8591-1A25-4AC5-BFE6-ECB8F60981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49B0E-3C29-4D62-A460-76D8BB3854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49F9E-F6BE-4ED9-8EF5-280F6F9ED5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28EF2-2140-4376-BDF8-1171E67F0B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65F90-DC45-43DA-B014-6159F0C309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D6991-5EEC-41BA-B998-ACD85B8F3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75B-44F8-46F1-97B7-23D222BC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4B98A-3D26-4A29-AE80-CE82A5F1BF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1CB23-2035-4B5E-892D-2BF17E52F7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DC04D-4E6B-47EA-B17E-B2B25F7B36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742CF-981E-4887-B4A8-C71EDFE7DE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6D085-39FA-4A2C-8F9F-A897D38A42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B1353-B580-4ED6-A61A-D2BF934FBA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3B9B6-7669-4986-94A1-66DEE14BB0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E628C-624F-4BD6-81BF-E6C0847D50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53098-32B9-4955-AA74-E31FA6558A8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BC30-C424-4555-89F7-2E8D04288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514-8400-49D3-9E94-8AECA079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B8BC-DC9B-4220-A93B-B3A163CE5F2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E3F2-2641-42DB-A20D-C7B5B821C82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F2D5-55E8-4A3F-8D35-9A709F42355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FD2B-5890-45B1-B349-0F469F2C677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E7A2-30D8-4551-B21A-546DB4EB340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B595-D3BF-458A-B9DC-BCC6E632ED7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ED1F-3B29-442C-B28A-EF9064F0167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824C-8DA3-4EAE-883A-2B3223B158A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DCB5-4E9C-4874-A0C8-F90B8BD8FAB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A7CD-9D7B-486A-9F41-233983DB9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AE2-821C-4D23-BC5D-44379E07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914E-928F-4293-9F47-B104FA5AA70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93EDEE-764E-49E1-A3CA-CBEE639C785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032714-F623-45E5-8FEC-551ECBAA48A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E279C5-1376-4FCD-9099-3FCCCC25D86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DA5851-84DA-4FFF-8BDF-D017660D0BA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E354D-E233-4AD1-B533-E7BCB24C5CA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CA0382-B36B-4FA1-9574-290A7AFA699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95CA65-FB62-4CC5-8BDE-5D42A8BAABD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0C9079-5351-40B5-8638-AB05DDDB390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7C66DE-58F5-4005-90E7-68BD6BB98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E4B-80E2-4BE2-80B1-CCAE7733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110DD-4439-4EB9-9C68-479C6D66160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E98E1B-4B01-4359-B42B-30D5011EBA7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922D5B-6321-42C0-A95D-A0075ED2D7D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BE67C-34F1-4E1A-82BF-6F6FD4E4D1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028D6-B0FA-467C-B063-8EEBAC3C2D2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6F877-4CE8-466A-A6D4-F854AC086F2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6EB25-25E2-4CEC-B7B9-F1F74E84402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139DE-1151-46F9-8E0B-B0027588CA7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3E8C0-B2D6-4400-86A9-18B61FF7A74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61BF0-3F71-4F12-A960-40DC2BC4B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2BE-3930-4EA3-84F8-D57FA635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C9AFB-A154-4E13-8E85-F483044A0C6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9B608-1207-4331-8E60-D7087270E47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EF951-66B9-4860-86B9-3AA285F357B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3BA50-25D7-4E41-9176-0338218A5B1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9648C-FCD0-4E38-B5EA-B33D6CB18DF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90FC7-2149-4D70-B5D9-FD935D8EC43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6CF4-0B2B-405C-A8B4-19199508C8F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4767-CC5B-4BDD-9AE8-32632D6C12D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2B1A0-1223-4DEF-B83D-581E7BEE223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3B1DE-4E96-4A74-89E4-D511C26EC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0C6-248C-4B74-A2B9-99010118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9000B-4ABA-4B7F-9A8B-218A6F0B362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FC8E6-F57D-4B0B-9344-F19EA94AF28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279E0-4FB3-4863-913B-C833A133730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053F5-450D-4A9A-9D63-9BF5C718E18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8B79-4A37-4747-9721-A2F76607F39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C4CFA-67D5-4E58-9DE5-0D6B726A30C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4FEC8-8392-4CBC-A343-1DBEBA4DD61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A0459-20F7-4316-8E7F-A5FF46EF565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B6EB08-069F-4233-9B45-348AD5885C8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3F89B-7D22-4E56-8DCB-852103F51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D8FEBFF-AC1A-40A3-9DA6-1B342F4E918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FF04E9C-2749-44F4-BE36-49DA77EFD8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686440" y="62701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6B6CF3-4AE1-424A-AAFA-D27D61EBC20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F99954E-BE0A-4C43-A5F3-DF089657DE3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9982F83-5E76-4E5E-84D4-0CE4F2C280F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4A97C0-0F20-4240-B0BE-C0E233959C1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75D2A7E-F60C-4626-8EC8-8900DB8ED16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810DE3D-7399-4976-B7DE-CC2DFC7F1D2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11E89E-98F4-4951-848F-4811DD3A53D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m.gov.lv/" TargetMode="External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Vardarbības pret sievieti un vardarbības ģimenē novēršanas un apkarošanas plāna 2024.-2029.gadam</a:t>
            </a:r>
            <a:br>
              <a:rPr sz="2500"/>
            </a:b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izstrāde</a:t>
            </a:r>
            <a:br>
              <a:rPr sz="2500"/>
            </a:br>
            <a:r>
              <a:rPr b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struktū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EE474C0-D0C2-4278-B666-B2BD9397F21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3360" y="1568160"/>
            <a:ext cx="8083440" cy="490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mērķis - ir nodrošināt integrētu, mērķtiecīgu un efektīvu politiku, lai novērstu un apkarotu vardarbību pret sievietēm un vardarbību ģimen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Mērķa sasniegšanai tiek izvirzīti četri rīcības virzieni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ā cietušo personu aizsardzības un atbalsta pasākumu nodrošināšana un to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s veicēja atbildības stiprināšana, atbalsta un rehabilitācijas pakalpojumu nodrošināšan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ienotas un koordinētas politikas izveide attiecībās uz vardarbību pret sievietēm un vardarbību ģimenē jautājumiem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304DAF-2797-41C1-8957-B5C7C3DBE24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Sabiedrības izglītošana un izpratnes veicināšana par vardarbības pret sievieti un vardarbības ģimenē postošo ietekmi uz sabiedrību un ģime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ampaņas, izglītojoši pasākumi, izstrādāta un regulāri pilnveidota tīmekļa vietne  un aplikācija, viegli saprotamā valodā izstrādāti un izplatīti informatīvi materiāli par vardarbības atpazīša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nformatīvi starpdisciplinārie un izglītojošie  pasākumi speciālistiem un padziļinātas mācības tiesībsargājošajām iestādē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onferences un starpdisciplināri informatīvie, un labās prakses popularizēšanas pasākum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ācības izglītības iestādes darbiniekiem, sociālā jomā strādājoš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etodiskais materiāls darbā ar vardarbībā cietušiem bērn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Apmācības procesa virzītāj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Valsts policijas speciālistu zināšanas pilnve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zglītojoši pasākumi bērniem un viņu vecākiem/likumiskajiem pārstāvjiem par vardarbības atpazīšan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Bērniem un viņu vecākiem/likumiskajiem pārstāvjiem izglītojoši pasākumi par vardarbību, seksuālās izmantošanas riskiem, kaitīgu sekuālu uzvedību u.c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vardarbības mazināšanas un novēršanas programmas katrā izglītības iestādē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Resocializācijas programmas «Vecāku prasmes» nodrošināšan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(2) Vardarbībā cietušo personu aizsardzības un atbalsta pasākumu nodrošināšana un to pilnveide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94CA1A-EE18-4E1B-9F7F-0C8933AFB80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3360" y="1549440"/>
            <a:ext cx="8083440" cy="4927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no vardarbības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atbalsta grupas, bezmaksas tālruņa izveide, atbalsta centrs seksuālajā vardarbībā cietušām personā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lnveidot tiesiskās aizsardzības nodrošināšanu vardarbībā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lektroniskā uzraudzība kā jauns drošības līdzeklis vai jau pastāvoša drošības līdzekļa elements kriminālproces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aplašināt personu loku, kuriem ir tiesības uz bezmaksas valsts nodrošināto juridisko palīdzīb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3) Vardarbības veicēja atbildības stiprināšana, atbalsta un rehabilitācijas pakalpojumu nodrošināšana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6E83855-512F-45A0-80E5-B51388977DB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3360" y="1539360"/>
            <a:ext cx="8083440" cy="493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vardarbību veikušām personām, vai personām, kuras baidās, ka var veikt vardarbīb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pakalpojuma izveide nepilngadīgām personām, atbalsta grupas, bezmaksas tālruņa izvei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resocializācijas programmas vardarbīgu noziegumu veikušām personā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ā regulējuma pilnveide attiecībā uz vardarbību pret sievietēm un vardarbību ģimenē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u veikušām personām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piemērot kriminālsodus, kuri veicina personas maiņu domāšanā, attieksmē un uzvedībā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ajā regulējumā definēt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 ģimenē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96680" y="380880"/>
            <a:ext cx="72946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4) Vienotas un koordinētas politikas izveide attiecībās uz vardarbību pret sievietēm un vardarbību ģimenē jautājumiem. </a:t>
            </a:r>
            <a:br>
              <a:rPr sz="16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6B15DC7-2969-4EBF-A6AE-E6E92916919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3360" y="15998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ks izveidota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arpinstitūciju darba grupu Plāna īstenošanas koordinēšanai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Īstenot starpinstitucionālo sadarbību un vienotas politikas izstrād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 un ieviest obligātas un regulāras starpinstitucionālas sanāksmes augstas vardarbības riska gadījumos, tai skaitā vadlīnijas ar algorit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Starpdisciplināra atbalsta komanda darbā ar komplicētiem vardarbības gadījumiem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i priekšlikumi noteikumiem par Pašvaldību sadarbības grupu izveidi vardarbības pret pilngadīgu personu gadīju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erādījumos un vienotā metodoloģijā balstītas vardarbības monitoringa izveide un situācijas analī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s vardarbības datu monitorings, veikti regulāri pētījumi, ietekmes novērtējum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da pārskata sagatavošana un publicēšana par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rdarbību pret sievieti un vardarbību ģimenē situācijas analīzi un Plāna īstenotajiem pasākum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es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12BEDAA-D54C-4134-AEC5-C2160548161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8.septembrī pirmā darba grupa (Valsts iestādes, NV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2.oktobrī Plāna struktūra un apkopoti priekšlikumi izsūtīti iestādēm papildināšanai un komentē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7.oktobrim iesaistītās iestādes sniedz savus redzējumus Plānā ietvertajiem pasāku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Oktobrī un novembrī plānotas individuālas sanāksmes ar iestādēm un N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.novembrim tiks sagatavots ziņojums par paveikto saistībā ar Plāna izstrā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31078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 u="sng">
                <a:solidFill>
                  <a:srgbClr val="0000ff"/>
                </a:solidFill>
                <a:uFillTx/>
                <a:latin typeface="Tahoma"/>
                <a:ea typeface="Verdana"/>
                <a:hlinkClick r:id="rId1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Twitter:@Lab_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https://www.facebook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Flickr.com:Labklajibas_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Youtube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Draugiem.lv/labklaj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elde Kēla</cp:lastModifiedBy>
  <dcterms:modified xsi:type="dcterms:W3CDTF">2023-10-11T11:36:33Z</dcterms:modified>
  <cp:revision>115</cp:revision>
  <dc:subject/>
  <dc:title>PowerPoint Presentation</dc:title>
</cp:coreProperties>
</file>