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3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68.xml" ContentType="application/vnd.openxmlformats-officedocument.theme+xml"/>
  <Override PartName="/ppt/theme/theme88.xml" ContentType="application/vnd.openxmlformats-officedocument.theme+xml"/>
  <Override PartName="/ppt/theme/theme76.xml" ContentType="application/vnd.openxmlformats-officedocument.theme+xml"/>
  <Override PartName="/ppt/theme/theme87.xml" ContentType="application/vnd.openxmlformats-officedocument.theme+xml"/>
  <Override PartName="/ppt/theme/theme75.xml" ContentType="application/vnd.openxmlformats-officedocument.theme+xml"/>
  <Override PartName="/ppt/theme/theme86.xml" ContentType="application/vnd.openxmlformats-officedocument.theme+xml"/>
  <Override PartName="/ppt/theme/theme74.xml" ContentType="application/vnd.openxmlformats-officedocument.theme+xml"/>
  <Override PartName="/ppt/theme/theme85.xml" ContentType="application/vnd.openxmlformats-officedocument.theme+xml"/>
  <Override PartName="/ppt/theme/theme73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80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82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1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</p:sldMasterIdLst>
  <p:notesMasterIdLst>
    <p:notesMasterId r:id="rId89"/>
  </p:notesMasterIdLst>
  <p:sldIdLst>
    <p:sldId id="256" r:id="rId90"/>
    <p:sldId id="257" r:id="rId91"/>
    <p:sldId id="258" r:id="rId92"/>
    <p:sldId id="259" r:id="rId93"/>
    <p:sldId id="260" r:id="rId94"/>
    <p:sldId id="261" r:id="rId95"/>
    <p:sldId id="262" r:id="rId96"/>
    <p:sldId id="263" r:id="rId97"/>
    <p:sldId id="264" r:id="rId98"/>
    <p:sldId id="265" r:id="rId99"/>
    <p:sldId id="266" r:id="rId100"/>
    <p:sldId id="267" r:id="rId101"/>
    <p:sldId id="268" r:id="rId102"/>
    <p:sldId id="269" r:id="rId103"/>
    <p:sldId id="270" r:id="rId104"/>
    <p:sldId id="271" r:id="rId105"/>
    <p:sldId id="272" r:id="rId106"/>
    <p:sldId id="273" r:id="rId107"/>
    <p:sldId id="274" r:id="rId108"/>
    <p:sldId id="275" r:id="rId109"/>
    <p:sldId id="276" r:id="rId1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notesMaster" Target="notesMasters/notesMaster1.xml"/><Relationship Id="rId90" Type="http://schemas.openxmlformats.org/officeDocument/2006/relationships/slide" Target="slides/slide1.xml"/><Relationship Id="rId91" Type="http://schemas.openxmlformats.org/officeDocument/2006/relationships/slide" Target="slides/slide2.xml"/><Relationship Id="rId92" Type="http://schemas.openxmlformats.org/officeDocument/2006/relationships/slide" Target="slides/slide3.xml"/><Relationship Id="rId93" Type="http://schemas.openxmlformats.org/officeDocument/2006/relationships/slide" Target="slides/slide4.xml"/><Relationship Id="rId94" Type="http://schemas.openxmlformats.org/officeDocument/2006/relationships/slide" Target="slides/slide5.xml"/><Relationship Id="rId95" Type="http://schemas.openxmlformats.org/officeDocument/2006/relationships/slide" Target="slides/slide6.xml"/><Relationship Id="rId96" Type="http://schemas.openxmlformats.org/officeDocument/2006/relationships/slide" Target="slides/slide7.xml"/><Relationship Id="rId97" Type="http://schemas.openxmlformats.org/officeDocument/2006/relationships/slide" Target="slides/slide8.xml"/><Relationship Id="rId98" Type="http://schemas.openxmlformats.org/officeDocument/2006/relationships/slide" Target="slides/slide9.xml"/><Relationship Id="rId99" Type="http://schemas.openxmlformats.org/officeDocument/2006/relationships/slide" Target="slides/slide10.xml"/><Relationship Id="rId100" Type="http://schemas.openxmlformats.org/officeDocument/2006/relationships/slide" Target="slides/slide11.xml"/><Relationship Id="rId101" Type="http://schemas.openxmlformats.org/officeDocument/2006/relationships/slide" Target="slides/slide12.xml"/><Relationship Id="rId102" Type="http://schemas.openxmlformats.org/officeDocument/2006/relationships/slide" Target="slides/slide13.xml"/><Relationship Id="rId103" Type="http://schemas.openxmlformats.org/officeDocument/2006/relationships/slide" Target="slides/slide14.xml"/><Relationship Id="rId104" Type="http://schemas.openxmlformats.org/officeDocument/2006/relationships/slide" Target="slides/slide15.xml"/><Relationship Id="rId105" Type="http://schemas.openxmlformats.org/officeDocument/2006/relationships/slide" Target="slides/slide16.xml"/><Relationship Id="rId106" Type="http://schemas.openxmlformats.org/officeDocument/2006/relationships/slide" Target="slides/slide17.xml"/><Relationship Id="rId107" Type="http://schemas.openxmlformats.org/officeDocument/2006/relationships/slide" Target="slides/slide18.xml"/><Relationship Id="rId108" Type="http://schemas.openxmlformats.org/officeDocument/2006/relationships/slide" Target="slides/slide19.xml"/><Relationship Id="rId109" Type="http://schemas.openxmlformats.org/officeDocument/2006/relationships/slide" Target="slides/slide20.xml"/><Relationship Id="rId110" Type="http://schemas.openxmlformats.org/officeDocument/2006/relationships/slide" Target="slides/slide21.xml"/><Relationship Id="rId1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 type="dt" idx="25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6" name="PlaceHolder 5"/>
          <p:cNvSpPr>
            <a:spLocks noGrp="1"/>
          </p:cNvSpPr>
          <p:nvPr>
            <p:ph type="ftr" idx="26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PlaceHolder 6"/>
          <p:cNvSpPr>
            <a:spLocks noGrp="1"/>
          </p:cNvSpPr>
          <p:nvPr>
            <p:ph type="sldNum" idx="26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3149C9-C817-4D7F-8C54-367E5F73A358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9879F3-980B-4E4F-AAAF-4C5D43FD56A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7C8289-3B9B-4485-A7AC-E04EB411535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12F63E-5714-4179-8BDF-FD3EF3F63EA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43253E-9FF3-45AD-B882-1D3A353E23E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CB042B0-B529-4226-B513-C90F7653B24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63B55B-6874-47F2-892A-2E928C63798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7E498A-108B-4F5A-941F-A4ED853A0B4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BD0034-08DD-4238-9FBD-EEF5624282D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673BC2-4B0B-4960-9E59-B54E740327B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01D87F-EE87-4C70-A2C7-6B4A712E58E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BB1F30-4751-4C9C-9873-608943B82E9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0F5CA5F-B99B-47C7-8D85-AF23A597792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D47569-1167-46F1-96DC-B3375888364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382A91-E1BA-4C7F-96C2-102D371EFBE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2A9261-69CA-428E-8A2C-63993B0F226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E46D51-FB0E-4F42-8479-1751435D465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B77C08-FFDA-4A70-B99D-4F62B799F35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5DD2CE-7A33-4053-BEC1-3C91FCC687F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FC22E9-2F2B-401D-9393-6CAE37D5820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A3FA6F-18C8-42E2-B496-54768A68A5B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AF54-B075-4B7A-95E7-16EEE283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30DB-2E1F-43A7-AD70-52B947C2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D1CB5-72E2-4439-9F4A-CF77AC8C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944A35ED-E812-442A-A8DB-9B51D2D4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29F07D24-5946-402D-8851-23B7FEC5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D82336D2-289E-4450-A57E-4E2B32C4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B318351E-E9E3-4D65-9A8E-35E41F9E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2C033784-67B7-4BAE-9CEF-95E7441A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A4BDB3E9-999E-4F0F-8360-0C1C0D9D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5808A469-1A23-469D-A93E-B724D5CB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B65A8931-8111-4ADE-925A-ABEA40189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70F15E7B-FC78-4EFA-BD8C-0E95817C6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47267429-051A-49A6-B9C6-8BF8D661D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85FF3-3A9E-4622-9B9C-C2EA9994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2840F672-D703-4882-B6AA-B1B54B0F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A58369E0-9939-4E83-8110-387F88D1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F0088851-7E80-4D02-A0B5-B77BAA3C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C3B95F32-0451-45E2-9944-F4F9A0FA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7D551B8A-1E11-47E6-AF58-DFD396EB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716F5140-8DFD-479A-8EBF-B7A732EB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A168790-C3F5-432F-B190-8A2487EF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F549D69-6CB3-4A1C-9146-5A948D8F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8785C01F-825B-4FD4-B5F0-72530657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CD389364-D2E0-45B7-A644-FC3CA8324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69873-427E-4A0E-8AC8-D9FF7F89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7968A4BB-150A-475C-9F0D-1A3D96B11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EEE653F5-B491-463E-93F8-17617393F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B29B7D6C-0641-4D5D-8963-8D5D8BE4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D596EC8D-5117-47F3-BC89-E45488C5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DDAA3807-F12A-43FF-92A1-B3F0262E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BA9C5B54-3F9B-47A9-ADB5-5E377896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90692509-0A5E-4349-A717-B04686AD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CE25AB62-85C7-4708-BA23-F6D4B8BC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BD6B9ADC-E6A2-4D44-A5EB-49014983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E33ACCE1-12C2-4F11-9F0D-03C5EFF1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47931-5838-4864-94D6-A755580B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F36A344B-36B9-418D-BC51-3CB1DA7F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D62C01CF-499A-4616-8D49-64C872CDE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7F5C4DB1-90FF-4F07-B8BF-C30242E19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CFBB9F66-40D8-4A7F-AEA9-2C31AB76F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6290CD31-9CEE-45AC-8D39-5871F0CD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F6358210-BFDC-4F80-8681-094CD558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600C1009-93A1-4A03-9DB3-3D35288C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EB9E5E28-F1B9-4F9A-BD28-6F41BB92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F04495DB-D29B-4973-99F6-2E88049C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306CDCDC-8E63-49D1-A277-31A9CE41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9D80A-BE93-4939-93AC-832D5BA5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73A6B86E-AFC4-4F2F-8F30-2DDD0993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945D588B-0D2D-4F7D-8D92-2C1B08FB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76822737-7CC3-4461-B60C-8DBCE5ED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42A0B88F-A6F2-4408-95FD-E7ADE30B1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0C6DA3D9-7319-42CB-BE10-8E6DB6F17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83219-BDCB-4BE2-8A5B-05290F77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50433-45A0-49BF-B94A-EE51D0E0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21E42-50BB-448C-A0D7-EC70627D2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B3B83-F086-4708-808C-496C8A36E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603915-4260-41C6-A072-10AB35B5E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3A08-F45C-4EBA-8368-3EB2492BC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F1AE1-2273-4E71-9477-7D46BF99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84321A-433F-4048-9DA8-7D5CCE30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608D83-67F4-48AB-AB09-7B1F2AC5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985BB-1C96-4066-AF3D-7E001F2E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B76740-EEA3-48C6-9E79-E93D586A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EC8CE7-0E52-4B99-AE0E-A00DB7B6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D5F9E-832E-4D02-ABEC-A66A9FEA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822C24-DDB4-449F-A507-A01A124A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B11349-9BC5-404E-A38B-54239B36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A8B0CD-33B0-43C6-93DB-27C67714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8C0E-2A5C-41FD-8879-5245C7B97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C0AF2A-317B-4B78-BFE1-230004A1F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6CF11-0728-4CEE-B304-F4EE35F7F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FDE24-8A05-47CF-8CAC-67C648E0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89E27-5802-4067-A468-38A5A5BE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69039-21D1-4FA8-BB85-282CFB3E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82417-4220-4480-B2F1-1E45F502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F7473-0C05-4117-A388-DC1A1B07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35D59-7E15-4A62-9217-7EB04C25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64058-C7F3-4B9E-9AEE-4FC340B7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1A05D-360F-4D5C-8DC3-83A7FDC0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1EBD-5C00-41B3-9CA9-CD8A073F0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5AAB7-E8CE-4895-AA30-FBFDFE66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A3C3D-B64A-40EE-A648-E118E4072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CEE6A6-4723-42EA-AA63-8B193206F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CC2314-2955-456F-A130-514751785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A0379C-87D6-4155-A886-901501B3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C5378B-4ADC-4396-89EC-17F8F0E6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911644-FF7E-4B61-865B-08BF53F6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E45B0F-A595-46B5-9FA5-E6357506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96A39-5B04-4F32-9CCA-FD8205AA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F6EE71-8C7A-4030-8286-2C0B6254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A52D-754B-4CC0-A453-448E56E7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76DEDB-6A5B-47DD-903C-AB756976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E1CF96-0139-4C64-966B-5A2BB360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9EEFE0-7656-446A-9A7A-CFC8F924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E28119-6181-40B4-B63D-ED5150CC2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566FCB-641E-42BE-AEFC-29D6FF136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8FC519-8B3E-4AA2-98C2-4A91557CB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98F02D-34EA-4DC2-AFBD-9B1D044E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A4F8E3-E617-4170-AE37-4EDB149F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E63DBE-200B-450B-9437-5C6C8508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DE04F1-E752-4BCF-BF46-B251B25A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BFD7-CB72-4154-8AA6-2FF3847B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375517-749D-4F5E-A292-4FC59A71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2AB168-9C8D-4B29-BBA7-6A2BE738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0EA267-670E-4274-AFD8-36F8C6CC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97D799-4CD1-4ABA-9012-EDF3D661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D9F97A-05FC-4715-A40F-5B882D72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4E36AE-94C2-4128-9434-7CE4067C5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ED0958-9F65-4431-B5AC-C647D2D65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693A10-D95F-4167-B15C-5B599333A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C5C46E-8F47-43DB-8DB7-650C2463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D95B4A-F35C-4D0E-96ED-1CC43AA3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3ED6-E3B2-427C-BBC1-E33EE01D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B6226D-BF93-475F-8685-756C78A1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D094F7-08F5-4DA2-9817-287C0734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2FE27C-4CEC-46E2-9B71-DB4B5D37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A010BA-F233-4C16-8CD9-FCAE6D99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1B8203-EFFC-4D3B-A01A-771DE648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2675F6-4365-4F35-9BC2-F5A48640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94DADE-8901-4433-810D-54BF5EA4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E96441-17DF-46EF-910D-4BF987FFC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30C34C-21B9-442F-ACCD-B832FBEA4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5FD250-8E80-42FA-8F49-557EC7903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1980-D3F0-49E1-AC6C-F2B46BFF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0BA51D-37D2-4890-80A3-9AFB6DC8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AEC971-F133-4CCA-B238-EC3C6E05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AA8C9B-02AC-483F-AFC5-95603AB1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1291AD-49F8-4287-A6A3-A76E32E7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02DEFA-F89A-4841-83BA-CD7A34D2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5BB3AF-E28B-43D9-A94C-14B7F0E3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6DA953-9723-4F9C-B989-59B5EF81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FDA172-38B7-4385-84C8-3E12283B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166D62-F8B1-4B98-817C-48163D2B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332A1B-3CDB-4BF5-A386-B1E5A3D19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CB89-52B6-412D-B09B-401A1C56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F22AE7-ABC6-4465-821D-8E746BCBF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AF339B-FECF-4D48-ADAA-7B9D7589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684BC3-F2D0-4976-B0BD-43ACA6E6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C73333-737E-4D3A-85DA-1BD3B97A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096E0B-EA8D-460C-B5A3-717D7DF1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CEA5ED-C14D-483F-9FF6-AA22D897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D8B468-2EA3-433D-B54C-23696D8D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7F438C-C8C3-48B4-87B8-0CEF7012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4E8F82-C54D-459F-8F25-C56F4E24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7DEEA9-E1B8-497A-8E3A-4FC44DD2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C7F1-1B02-42A4-A8AB-D86A9734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F83B1C-E510-45AB-A747-4D538F98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E11411-618A-4E78-A732-277019D5B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B0F8FA-E803-4736-8829-885F8AD81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456F80-2C6F-447C-B0CD-43B5C8559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DCA54F-6BF1-4177-8420-71E0A84C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E5B566-F3CB-4D1C-A10D-FEA27580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745E14-3F74-418F-BB6D-6890E97F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117F01-3948-4E85-9C07-29E2AC6D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525DFC-07EC-4961-BEA0-08C30673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EEB267-E20A-45A7-B3BC-47488BA3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C328-71B9-4E27-A021-3110A6BD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3FEF-9D5C-49E9-8749-9DC8F411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505019-196A-4518-82DE-C5C53C6F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FEE0EE-06EE-4299-8D39-EFB70CEF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CA06C4-FAC2-440F-99E2-5C81E1F2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B27757-448D-4317-AF64-F00275922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29EAE2-5168-4166-AA67-714AE7433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4406D9-4691-429C-9842-5594CE170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AEA574-443A-4DCF-882D-2AD8A723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C85F48-A56D-4062-BC41-40056D59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42871D-D1DA-40C1-988B-A647C3CF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AC1EF2-7E97-420A-8620-E8975D01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1840-44ED-45D6-AE86-248383E5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EC37CB-1F55-4593-A93B-B7B29940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FA3405-B792-4A54-BBAF-449F172E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ADBDDE-4431-4BB6-AA84-762F3CFF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F87D6E-8932-48DA-9B29-0A0201E0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316028-51E2-4A85-9864-1155C3E2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FD679D-8E1C-4E8F-A456-1A5F7A5C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0228A1-292D-47F1-9452-106A095FD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3CE04C2-A117-41F9-A28C-D6ED264CB651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F82642B-2F2A-4B32-9850-ABF1871A9D0E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A3A3E4C-3AB1-4FB6-9B10-0072DF6456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CBB2-299B-4B43-9DC4-F8D1A4F9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5E9638C-1BF7-45B2-9794-2AF16F3F0949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6FE0075-D9B2-478E-8949-A725D5D89C84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F1E41EF-D556-450A-B58F-507235ABEF69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F2DA983-1ED0-4F38-A074-97150A05A32F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F3C6DF2-356D-4F65-A31D-F31CE955BDF6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C8B7D17-A5EF-425D-8E98-D73940F5AF79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F570165-57FB-4963-A25D-37E5887287AC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695BDBA-FB14-4A73-A14D-326DA663D028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6877174-55A4-4E93-B50B-93883779B5A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1E80D74-7F59-4819-B2B9-1CCD5BD71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D085-4D16-4E3D-9A83-3C8CEF772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9E9CC8B-7A00-4A06-848C-C010F720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6ACD2D0-6290-4962-9B73-25C19785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E65F8D9-F94C-48C3-9408-A6BBC754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5DB0676-5C51-4510-A4B7-BEAFE9A2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0DEE48C-61E1-4653-9952-B2010266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7B75624-3122-4E50-9BCF-D496BAD6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5C9259D-1D32-4551-B3B9-D94A4DCB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3F69BEE-0140-43BD-B44B-186C1F5C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AA7CC25-8B9D-4F62-8409-E4CEF6AC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84D7B13-FA0C-433B-97ED-5C5811760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E9F6-0A8B-4336-AE7D-4775B3BBB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6AB353B-CA5D-49EC-AD55-6F202844D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179A674-C4A1-4151-A030-D3049686B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9874629-D517-4083-9CC9-F7F129AF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78D8BBD-1C1A-478B-886B-401D3E81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3C61A83-897C-46D7-8E5E-77B9D384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826EBB3-53C0-43D2-A3F2-B40E4DA5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9E10957-00B8-4DE0-833A-CB07ED17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0DC2512-F0E7-462D-9036-899CFB8A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9387DE6-85F5-4EF9-B3DC-7486008A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EE16EC3-D613-4298-BD3D-DFC4B5EB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09D6C-04B7-46F4-A072-749B7BCC2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FABE156-F2AC-4A85-95D3-1569A3F7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465AEDC-099E-45C8-94F3-CC10CD00B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BBEBDA4-7DE0-489D-9A5A-25792677C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99F73B7-628A-44FF-8509-93325E9B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A223927-74C8-4ABB-B4D3-44DB138A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138B6AF-3816-432F-9D21-9CB5E65D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88ECA5D-720B-4229-B263-0E860A17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672A76F-BED6-4A09-9912-152DC130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2E3D2A5-AEFB-4D25-8F18-AA17EB29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9DEC929-B033-4E51-A62E-7171C452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665F6-1504-4B18-9B02-83279693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25FC6F4-ED29-448F-92E1-AE647B62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8179E0A-D04A-4E0F-99ED-905348D8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5BAFD43-0405-46F5-9C3F-D6C58E16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82A22C6-EBD7-4D57-806F-CFDF5FF4C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9CCD679-0EF6-4073-8940-3AA5DFC52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EC75522-9543-421C-92FA-2D8B53DE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324848D-6A65-415F-B59A-AC4CF50B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E34F472-012B-4C6A-8BCC-79D3397C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4BC5589-30A5-462D-95E8-ABF2D343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62EB281-CAC7-49ED-9029-57DC4236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16D8E-0E1B-43E5-8C49-6DB41814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8DE434C-D167-4C98-BB86-2DFF31EA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E4DA489-7A4E-405C-955C-02AC78CE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A820F90-F08D-4BAB-933D-78BC9953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68B5DF9-2601-4CDB-9AA5-84924C4B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5A9EDDC-526C-45B0-9C50-01019C19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796F54B-2E33-467B-977E-565F4C7D0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5C9AEDB-7BFE-4F38-AB2B-FA1A7AA0E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FAFA451-1E5A-4309-BB9A-7D07BA06B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65DB1B3-C0B2-4F8F-9362-372B4648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20DAC05-BE4C-43EA-B23F-2971E7F4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CD278-A8CC-4F2E-849E-F1F16523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820AD7B-EA51-4BD6-98EE-FD5D8C7B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3D28B77-583C-49C2-B018-E196F04F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53AFD57-20E1-4F77-A333-82A91917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31F8C7A-C6A7-4668-AB31-E46D3FCB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EEE454A-100D-44B6-9568-D92984D7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FC5E465-60B2-4754-8A79-EE6389AE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59DA2F2-F42C-467A-880F-05FC7061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62AB226-2854-447A-A5A5-A6CA33FA0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EF3014F-BDF0-4BB4-B599-422965A4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4981BE6-09BB-4C0E-B952-26485D27C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63D48-E99E-471E-BD9F-41091C43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456978E-F284-486A-8F03-D1F94F8C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5E520FD-3F9F-40FD-B1F5-48BD5FD9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55F6A10-AF7E-471F-B270-BABFA528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E5E6BB2-4BB6-4BEE-A0C5-08AA0703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B5892D2-A2F2-4DAE-ACD6-08641A2D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1EA4FC5-36CE-4D78-839E-FAA83CD1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28876AB-FBCA-4863-956F-CFFF1E6D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25688E0-5F39-431D-A017-B5731604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34BBE2D-2DD7-4DD8-86B5-951666AE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C1B1DFE-9889-46A3-949D-90BBC41F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D803-85B7-4307-BDD8-A9ACB774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5BB75-0DDC-4D0F-A481-C7BF6194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198782E-6801-4BEE-B75B-C36F01F0F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CA7CAAF-46E2-4DC5-AF4D-D303514F4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52AE98F-E605-4444-BBEE-EF87B025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B6C55F1-1857-43B8-A726-BB1A191E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3C775EF-9108-4BB5-A56D-84A6CED9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C956DE0-8611-48F3-9F58-E9117B70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65F0A81-5523-4411-8FB7-720FAC55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B548C39-2653-4654-AB61-D5B809BD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27327F2-8A98-485D-8757-3E66650B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790B396-ECCD-4D67-8EFD-3A587218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13468-904E-4373-B5AA-6D211D02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6CE7CC4-0E7C-47C3-A9C1-94AE1DE2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58E3BD5-F69E-4F6E-A7CC-693E937FC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264CCD3-FEFA-4FA4-ADB7-442F5C77E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AC65B31-A12E-46BC-8912-9D4F6DE19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C60B214-DBE1-4922-8A2E-00C281E8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D408E0A-39CE-46C1-A27A-73C67F15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EF768F5-FE50-49FF-B2A9-BD7392B0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6E4E852-1363-4F68-AE8B-6CB72A9C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79BD0B4-7F5E-48E3-81B4-0967A498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88380A6-E9E1-4EE8-8B7F-76D0854E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C9388-8C44-4124-84DC-3A96D474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D3A623B-406C-46B2-9B03-D7440021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2DC5158-20F7-4CEA-AD77-4070A4C6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7DE63FA-7355-4D4D-B5CC-83CB94B2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D636806-23A9-4D74-8BB4-794A8A06D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BD47A80-E171-480F-BF7C-74FA4AEB3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A10732B-1132-4F14-9EFF-2CBEF3500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92B9011-42C2-450D-A577-748C86BC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7BD258C-296A-4932-AED6-9B535555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F5FA0B9-A688-460D-96BA-A65CDA5D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0CB32E9-FB60-4E0C-852E-6E5BA257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1FCAB-33CD-4474-8E38-282CEE1E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C1273E7-AAC0-42CB-8EAB-D69D804C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22D75BE-7951-4AC4-ADA0-74CD63CD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3C7351D-D68D-4472-B17E-639A6E5B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8CC5D5B-CAAD-4152-8678-A9D3FF45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C89E541-AB3D-4AB0-A0DF-BB4A9B9C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D37CA15-11CE-4478-9849-8C0ABFCEE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67B1CB0-09B2-46B9-B977-0CB491313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9972827-0605-42F2-946A-84040FF70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D828DCE-1947-4102-B099-B957FE68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820C1AE-8978-4473-A679-4066CD1E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5D0DC-8DE6-4626-89A3-DE02CB73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3261B70-DB97-4A33-A3F7-EC88F711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39EBB28-96C2-4F98-9529-F4C8A800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B745389-868E-4160-8D47-2661CAC1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209E5F9-E429-4DD5-95D5-9098F121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CAC71D1-4EAE-41D8-AC3A-34F850FB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200B262-F1E5-4AA4-A7D7-4CB94631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A0878C8-766C-4DB7-AE4D-8D9CEF25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327B66D-4B52-4FCA-A5AF-47BA4E03B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3A2E4A4-C991-478B-B7CA-EB01D2F8E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F2C98093-A026-48D4-9442-0884B06F8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8FF80-5064-4623-AF2D-0D591ED63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5092577-7F54-49DE-B541-3E4D9334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B1CE5311-F7C0-469D-9587-26B33BB1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850E8B9-D133-4C25-BAC2-C28D1080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413139D-4044-4850-84E3-0A761F78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ECE22EB-2A9A-4108-8BBE-6D3C3A49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B5BFA85C-724A-4F66-9C92-B39A4B1C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F11950AB-FD3E-44B9-A23D-55B5E414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F7E1F0E-6302-41BD-97FF-57EC393B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A2DD4E60-31E2-4739-8F72-13B5C8BE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2307C3E-C119-4EDD-9783-835A045B0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175C6-B6A3-4450-9ABE-611D9964F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F55578A-A6BA-467B-A86D-C1DE85259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8803ECE-5A2C-45D0-9CB6-0D7865507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B972369-FA41-4AE3-93F4-A52C5F9C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C4BF25A-ED95-4EF4-B6C7-213A592E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54298BD-7D54-4C9D-9E30-C3A52557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59722C8-28C1-4919-89E9-0CDE0AA8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F44086C-A28B-4CA3-953C-74F45684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DB2EFB0-3690-470C-AEEA-FB2CE4BE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D2AF94F-DF3C-45F7-AF49-DC5E9F13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AD64E1A-7C6F-436E-B15B-B961655E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FEE97-A5AC-4A5D-9A07-2B8D2548B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AE5068D-4738-41B0-9CB5-4E414B5C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0F310DD-EB9A-4AC2-9C90-796A1E716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8F9E3AB-8FB5-41FD-885F-10A449686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F1CDC10-E104-4B88-80B8-38A79D45A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F51F194-CA23-4EE4-B7CE-FF351CA8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759369DE-A00F-43C7-8AEC-FA4FB94C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C670DE5-DB4C-4221-8A47-D107FFDB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6B56F822-F83E-4186-8F85-410862C1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65F59247-79BA-4AE0-A680-3567EF3B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B9FC432D-7A07-4B67-A12E-501D705E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AC044-5961-456A-B111-966CAD1E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34D71AA-0968-4A7B-B773-220DAE26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7CAA99B0-C40B-439B-8633-91931046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4F1BF77C-BA9F-4FDC-9E44-09DCC411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BD469FA-0CB1-4B8E-BFD5-D04A1B9ED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6204E53B-3EBA-4B39-8CAF-9C1820873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88228008-C70F-4B62-9756-35EC54089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00E1C7E-9056-4FBC-AD59-E9478926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1784FD9-651E-420C-A06A-972C71CF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ABE1F16-A10B-4D94-8E86-64F49014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1C2DA4B-3A1A-4BCC-94B4-16A176BC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7D2B5-1184-41B8-BD51-F8436B2E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450CE26-8AC6-4200-B145-E147353A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4DF29AF-0F7B-4A98-B50A-E28F9A3D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7A1ADBD-F6DB-4079-8DBA-7823E98D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599F4B2-A689-4E29-BDF1-1BFEEC39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58A6379-EFA4-4664-97CE-4FCD5A7A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B2D3842-C5E8-489E-B660-F345254AE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8DD5678-13C1-450A-A8E1-855FE4B90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733BD606-8DA2-4FB6-B3E3-46924E2BE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75D1E377-2FC0-4095-86FA-EC23AF9A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5C9EFBD2-EF14-459E-B203-90D063B0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DB5A-AED1-499D-8122-773FC99B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4A888-42EA-4F86-9B63-0AA28541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983B6EB2-2CE7-4CCA-B504-2C2CFF0B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8FB03A99-177C-433E-B8FB-385D1C9D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8EE438AD-7C68-4577-B098-ECAFC5B0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DB8914C2-F7C8-4829-BBA3-51C9C626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1A0DF803-4C56-443C-BECB-856DA232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58238C22-1689-43A5-80A7-73C300DE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2673CE53-8277-47A6-9CDE-E5E1881A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7039D136-2A26-44B5-A48D-2BA8DF68A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535BD187-C350-436B-81E1-D087E87B0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95C554D-FE07-4FF7-80EF-D1DAFB254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ED010-0D13-4BB5-A3BA-454DAD25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6E89199-D820-4E22-8153-EC587657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57A9E80-7880-47D6-A69C-53B7EE55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6EEB388-704A-4DDC-B4FF-36D77A8F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828DF2D-2B4E-49B2-95D8-D9C059BC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E98D3FB-BFA6-400C-9E31-E955C3FE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BCD7003-974D-4F47-B184-E3379B5C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4ADBAA4-F522-4482-BBA1-24522AAB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32C934E-DCC7-4906-834B-210B7985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2BAC3CF-B91A-4231-9704-A5EB0129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909D5F6-AAC1-485C-9BF1-49A1FC4DD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C2DF1-091C-40FC-8E54-1FD622A8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6CC10EE-919F-4083-8F22-A3D986F40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C116882-4B36-450E-9C5E-35771F290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053C597-D063-4BD9-9676-CE495756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AF14F0A-ED17-4401-8B2E-0B28346F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4981AA6-66F0-4D86-A2B3-DE52ECE7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80B36624-7E4D-403A-891F-AD3738BA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B8A1220-AC31-4C9B-B81A-36B21408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D86CB37-045E-471E-B283-225A6A3B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12076E98-B01F-4C69-AB49-C4A3DFA2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77125F6-1A1D-4FA1-A0C6-193A0ECF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740E6-ABF3-4C07-9DCB-22DFC719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E4A2F517-1937-4960-B1AB-6B0A2492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6EE844DD-7663-479F-843E-31C795468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E9C647A-C92E-495C-B1B1-C701E51E7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FAFF87A-B734-4FE9-9A3B-4859A8B1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36F8D12-89A6-4FC2-8945-02DE26CD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8B5E3D1-9DA6-4E2E-A5D7-5E4E0AA5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DF24C2A-75AC-4CAB-B70A-7E5CAF88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A49A77E-FC3D-4BF1-A3A0-B8B587A0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A2D9B3F-CB25-4336-8328-EA23F633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EAD6A7D-BA75-486B-BF60-190B872F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AF17C-2D8A-4AAC-8979-261FBE28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7597DF2-882D-4BB8-92D5-2D111549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5441544-C3F1-4ADF-AE52-EE44CABF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173DAD8-4AD6-4D09-9334-E3E0B9A6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8DF7578-2239-4313-A83C-DE5B1ED57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49139A9-2C7C-46F3-9E87-11B54D482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60A0CE0-FF56-46BB-B06E-2C100972F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130804AD-2F60-4211-AB02-7822B702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26D6F249-D893-4731-AE71-BB6B0466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4B7065A0-14D9-463D-BE0B-48BD9B6E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5B7EAFED-B2B4-4C28-B5F1-E5FCD66F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90760-7642-438A-BDD1-67B37459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42FD3F5B-9282-420B-9995-1B87B577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8B6FE26-4032-4333-9A04-8C5DCE68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C2D13A4-51BA-473E-A9E8-A8605703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724D61FA-A9CC-47DB-8132-99AF0791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FE3F79D-CD33-43E9-A2E3-4C5C28C9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2EB9610-907F-413B-BB53-B19D861C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8F68C043-81F9-438D-A44A-2B6BF2E4D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994DA2F-5432-4677-A84B-7C7F6CEB9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0D90AAB2-9879-4597-93E1-7AAC7636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C909BD3C-60BF-44FE-A70B-13E8617D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DF4CD-CED7-4705-8090-9B584ABF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1F9D20CC-14C7-4D5F-9E54-30C9CAB5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0BF4C4CA-8311-47A5-A45D-5A6DAF7C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2875F01-4882-4617-86E0-0A3C6017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9061E11D-081C-42D1-9071-4F6C2783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E38B5B09-F23C-4924-B772-EB20CBCC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906D5A03-43C8-4DC6-A004-7085A5EB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F8FE22C6-DF87-4B5D-A92B-0C3952E7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2DCA7A6-95B8-4962-97AF-B3FCDA7D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280C7036-4EE1-4396-9201-FC98078F8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63FB8817-48A0-41B5-AB1E-3F331E931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44CD7-49CD-4DE9-8222-6CFF92A5A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B5B8F80-77A5-4F35-B3C9-C789A7AD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F5387D70-25FE-443F-BE1D-D0BA6EB6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67B88BD9-5536-40EC-B360-1C8EC845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CBFC3781-90DA-44D4-95D7-7B0480CF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73B29EBD-E129-4761-93BB-8F918675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07B3ED90-01B0-4DFB-B474-CA3088FB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85835B0-80F6-4EC6-87C6-21765981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42E7E436-BF00-462D-896C-45100D4D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C6EAAB1F-CE25-4B9C-81D1-0E33C411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9438FD90-DEA7-4E9C-8429-C16E5C387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B9178-9298-45A9-9656-4061F0530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94D465DD-7A8F-4472-B59A-CF37342B8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C084750F-BEB5-44B5-85FE-A91CC20D6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EFD6BC88-C5B1-4E88-B3AC-0B964E70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4CBFE86C-9C43-4CE3-85A7-A9011FDB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2B5A884-0274-4E43-8F64-3566837B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9223709F-6AA8-4D96-976C-C468DDF0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837F71B3-1010-4413-8189-9482665D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05B10E13-9106-4277-99FE-E82E66C3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9AEEAC4B-87C4-4D87-82E6-0C3D2BB7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CFEDF102-0EAA-4A38-A628-73735970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4B71B-74C2-41B9-8542-EE86B6EAE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3908DE12-2816-4889-803A-67AD39D6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F38967DD-7CB9-4886-97CA-036C716BD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0730A40A-56CA-415E-9B7C-63F8856AA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9587218-9D33-42D0-BB95-D6E97CFBB025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A5C0CE0-76AC-4042-861F-5AA098D8BB93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9F73C9A-3DDB-44DB-B950-481B88BA936C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794996F-C4BF-4D1B-977F-6809FDF19419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2381415-679C-491D-B23D-95EDE42D2B46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7617422-AFEC-4108-9E54-315F5681705B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E621CE2-A33D-4592-928F-D7096A2C3D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439C-036F-44CF-9811-0D103079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E06C1-1187-4EE5-BADE-7D585E29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C9FEBCA-1F1D-4966-8852-CEE62DFECD73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8923E9A-C8EE-4E67-AE22-3E12239CF7F0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F4870FD-F127-40E4-ADE3-B26A04B1DF41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40D9E54-B6BD-44C6-A268-7E8E072D57DD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A046954-399D-49A6-8D5C-97CF2CD0094F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82B57143-8361-4A37-8356-82540DADF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A6C3ADA2-93D6-49B8-8BAD-E08C9DC8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CF5B1804-2BB3-4D6B-81D2-C2D9AD0B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9392B5D8-E398-4913-9516-34624D2B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B3A95575-E145-4D4A-8411-59D22845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7F1D4-7DF8-4AC5-BB31-14392232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843729E6-E60C-4AE2-A3E8-1DEB40FD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0E95913E-F0EB-4224-9724-82653931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243457C2-D635-455A-8D3F-7FE12FCF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22728A70-23D4-46F2-92E8-01464425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7A331AE0-BDA4-481D-86E1-6BD29877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1F3F9984-44E5-48F9-B127-EABE19E9D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B1096701-8760-4911-9F56-E1718BA87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BC7D1573-C4EA-4D9F-B15D-270EEB548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9C0F4B67-8735-4039-A709-E0ECB251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07C10BBA-AECA-434E-804E-0FF36D6F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53DE9-9C76-4909-B1B6-88FD263B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486D9C23-903A-401D-97D5-8EE54B14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F7220911-1386-4ADA-820F-10285192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4B89531D-5F52-483D-96F0-BD1FDF4F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CF5D4CFB-A90C-41A4-B10B-532DD91D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37ACF51A-597A-41EE-9682-B411749E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DF065AC4-9A70-4990-8A13-39782196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DE556664-A3E0-463C-BA8C-0FF16212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6691EEAF-E41F-4210-BC3B-1C010F13A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3809211A-1C87-4225-9E09-2FE8D7070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6B33A221-12B3-49DA-AADF-1CE286A5A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E9BA5-617A-407B-A1C6-DA4B54F4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C79AC76E-9642-472D-98C3-8A8301F1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6C1EBFBE-23EE-4A6E-8F66-348F482B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132D254E-5D69-4858-954C-E3F57507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9D2AF2D7-6944-4BBF-9E9F-8295CB3E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2F83BF03-563C-41E4-AE34-D8C17522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A3D4E84F-51BE-4EA0-B9EC-44901DFE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563F8895-06C6-4FFC-B2DF-0115B0BA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03518713-648B-43EC-BBDD-493E47AC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6DD354DB-08E3-4CB1-96A3-92373DE9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E9A91AD3-15CD-4AA8-A62E-1ED446DBA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4B9E8-CF66-40A4-94D1-FEC7B051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02DCFF1B-4802-43E5-AA66-45640120B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175C3F90-DC20-4165-BDF7-CFB314308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3614BCAE-C4D2-4C45-8810-121AF65D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713A1976-FC79-4ACF-8161-837F2E6E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99F4D93D-42A6-4050-853C-D51F79EA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F2315805-9A71-4EC3-B1A8-6A48CBF8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CC4E648B-CC6E-4601-A78F-CA13A66E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2933DAD2-BDE9-4D99-8CFA-C56486B9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1A0F5A41-CF37-4CDA-B8E7-C9C6BE2B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14D27A81-5FE2-4F09-AD03-B89E6B59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6B823-7865-4C8F-8AB6-57CF5926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F2401EBE-02E4-435E-A465-AB5FE16D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A29B5DF0-8484-459C-85E0-959982170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F323B2D1-E7DD-4285-96BC-8B2A82B00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3AA60F51-9ABB-48CC-BF68-5F8C5E921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DA83CABD-81BF-486B-829C-ED46795A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57362DB9-DC47-47D5-A4D7-0E309688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E25AEB33-2C4F-48B8-9464-2EE9C68B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5D4E71E8-53A9-4D52-A911-DDDA8870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47D7E490-32F3-4B3F-80F4-9E842B87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013C94BA-B9FB-488F-8538-A6B9D64E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2371B-1556-4028-BB9D-FBA7439D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2E9D9090-248F-4D72-8746-050B5CED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4B6F7C01-ADB6-4549-AAF3-A867F53A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2579C589-5B2C-4084-9852-DB386BF3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A040F199-017D-46A0-B34D-D0B135E9A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B65F33DA-1FA5-4332-BF68-F9BCF15EC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8A00A1E8-B882-455D-8B54-3B3748CA6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BA55F793-A7C2-4D65-8133-32D2CA1D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322F97B4-DD7D-4893-8F9D-6DCB546C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8BA90802-1E47-4565-8B60-545EAFE3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219B2F31-2BF6-4E4D-AC27-9A4198CA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3E43C-5D82-45B1-B18D-4550B3B0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59E0EEBE-B387-439B-84E7-E6FDC651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C97A9D68-5C57-477F-9DEB-E3CE4A94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C78B7250-8D36-4B89-A322-2EE5C474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F0286103-A7DB-45C6-AAA7-95147EFB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DBEE486A-4BB0-48A4-A300-634BF7A0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037D7070-B01E-486B-839D-1AFD59CA4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F988D955-4B6B-4BA8-8B45-8E9BD76C8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1F940AE5-B1A9-4042-A0C4-A644F3BB5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92BE302A-A9AE-4CFA-8B2F-BC84966A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7349100D-33C6-48D9-B2C4-EFEB11B5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21C94-F1BF-465F-9933-60B62BCE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05E241B9-522B-45B5-BF83-5598BB15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2AA399AD-26A4-4008-88C7-6E8B3F05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5B8C0FBF-ACA4-4B68-B271-D48B317E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8EBF457A-61CC-4672-98CE-A7F3D93D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81235F44-F92C-46CA-B52B-4A1DB803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6DDA8113-6838-4A95-99F5-BC21B67C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3AEA1242-9E8E-4E55-8B48-5CCD2167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B208EC8D-290F-4F27-A1B7-73856A73B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BD1D5C32-F408-4F8B-8A8D-BD7B6DDDF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28003311-4B37-429C-ADFB-F4C8F6406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F81BE-F546-498D-BE1F-AF7AACB3C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34961DAF-7DD3-42CC-A16E-C788EA23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E4AF080E-585E-406D-AE41-A4E99498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088EA21C-8B05-4F22-8446-6AAA15A2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99807A75-3A0A-4DF6-8EFC-372B6000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06E9DCD1-AD9F-4B20-BB79-CA007096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AE6ECA6B-2C31-48D2-82D1-F72C65F4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E8A95D35-5DC4-47EC-B2B8-9AF836D1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C0105E44-C105-4507-8746-C6BD69BF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30AA9FDA-02E2-4037-BFA7-5FDEF5B5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3F8BE985-E29C-465D-9312-C51B4612D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7EB4-D9E9-4EFE-9B43-9D4BB3CD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5867F-3EA4-4481-ABF3-3598A7C86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28030386-A0AF-472D-BD2A-27EB00DAE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FF9B6B67-EAB9-4FD9-810D-83E21F08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5767DB2A-265B-4350-B593-02730822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7D0FDD77-6DBD-4665-B63E-C24D1D8F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0A4802BF-43D7-4438-90D0-4826EAE7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8FC84193-9B0C-4591-B136-40952ACF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8C83C2E2-A4D1-4D9B-B763-358F806F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DD3E1EE7-4FB2-4FA6-BBB3-DE821CB2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F0A44BCA-BA8D-4A4C-9D9E-AB369314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954917EA-8A5F-42FA-B3EA-117C1858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BDC7D-FEE6-44A2-A657-01B37C117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3A39B67F-902C-4E55-A002-B9349D3C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265E1847-0ED9-4551-9E52-7152432EA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6AA84BE1-65D4-41D3-BC28-46B95CDD1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44ACF49A-EE75-42C8-925E-A2C4E3716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65DA2931-C49D-4DD7-A7D6-517EEA7B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55AC0A69-0A59-4D39-9B90-849EA77C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19DA960E-20B2-4B40-B20A-A875D412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27ABA8D8-50DE-45E8-AEFC-CEE7B9B3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64FC2B4B-DB22-4820-8345-BC0542ED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89383B2C-8C6B-42E0-B47A-8D1092E8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887D4-4AD9-4FD2-A847-CF7881FB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C6FF672B-C52D-40EE-A8E3-B4EA257E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FA17F98A-3F85-419A-9CF2-A2CB983D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19CEC5CD-4E79-48C3-911E-0D6841F4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CEC4603A-AA47-4491-A073-BE4DF7D05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22890C11-BA46-4DF7-8957-6285CBDB1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6090546F-A934-48B1-8845-5207BBE5B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7BA36CD6-FB17-4FE4-B122-E1398DD5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E5085D67-3D3C-49AD-B736-6838D79F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5A21FD53-5F6F-4449-B9AE-A65E7152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8967CB8D-61F5-47E3-8762-8114B515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D2D8E-9778-4C71-B44D-1DF81ED3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8DC21589-3D4A-40DA-A9C9-E14F0D57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830A6F73-2917-4FAF-804A-434499E2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8FB90497-67B2-4E65-A58F-1C2A768C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BBC6E83B-0F3B-4041-8CED-2381B76D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FDB604E2-FC83-46A4-8EE6-43373434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99969098-B7B5-4269-8395-F2D58D7E1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C764F0DD-41CA-43DA-B21C-99CF00C17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BA8E9ECB-5F8E-4ABC-BD05-F474F1133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7E0BEE21-7948-4EB8-B706-11708F2D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68DBFE58-8032-4779-A9CE-FC64FE58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FAE83-E735-416A-989D-F992E62A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6FD78F17-56A9-4743-BBC4-FD855F16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F3E13873-B107-4DAC-81D8-33703E6C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BD697DCF-D489-46C3-A941-B9C26ECD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5FDAD215-FDE7-45E8-8651-8790B3FA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4FCABB94-BC1F-4421-8D45-95031585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6CC64205-0ACB-4334-B5E5-525F7D60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8A6DA7D7-39CB-4DB8-8974-8DA73559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C51311C0-1AE9-4FF1-A794-EE5EBAB25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C861F8EA-C1AF-4946-AEC9-CA700A5E6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B2BE14D3-2210-4340-BA49-E93FDFD8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BAC83-DFF8-40D9-A65F-A0D5C763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37750746-9E6C-4D53-9306-281B00A5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9CE0491A-546D-4C47-9C25-1EA94463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BDAA1839-5BFD-4527-B802-0A41BA9D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179D0B96-2A7A-43DC-99CA-EE180393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1ED49762-2002-4E55-B423-8161C08C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7D1396DD-B440-4CB5-993A-5908845F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6C86D8EA-DAE5-4679-BB46-03C3003A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3E3E2613-4340-4A65-8189-8DDFEA1F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860DB9C2-4E8A-4011-98F9-DA042899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F379355B-12E6-4E73-9B0B-8A9717F1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58113-6078-486E-A487-089F71A3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F3710E20-DA26-4A0D-93D8-1A3280C7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12C33E8C-946C-4F78-B741-BFFABBC41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280150C9-B3E5-4074-814F-58BF896E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3909A43C-3CEA-4ACB-A845-ECA012BE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EAF482C8-6F0F-48F3-8B8F-24E811D0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0A113AF0-0DBF-4CAC-A61B-5BA5B47B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B7F8648C-4D70-4555-9022-586431A0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DF18FFCD-AA73-427D-B090-0EFC3C0F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B116AE83-A799-42F7-BE5E-EAEFB971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D89FA807-DF64-4E67-92F2-0FA240BF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9DDE4-8DF9-4397-B52C-07267FBD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DA25B942-0A0C-4157-B369-0E0F89DC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C34B1643-902F-4F1B-9466-2FC097171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7C7A2C54-1537-4D62-8D43-77A2C1A1F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B8801D6D-0B5D-405F-9773-D9E27FDC9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DD6FCC4C-BCD2-49C0-B305-A2EAA395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0FF80280-26B3-4BE6-A8B4-E844C8EF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E52C166F-E914-4122-991F-6A65F822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810E06B9-5E74-4839-A916-046FE16E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04339E19-25BD-4F62-930D-CE8E21E7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A48AD978-9B75-4D44-A85E-A6F577EB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21966-CCB0-4BAC-AE1F-4028D0D7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45611495-FD2D-49AF-B1A4-B2EC03B2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FBDC7444-CF2E-4C8D-A445-F2EDBB34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CB800978-CCAC-45C8-9587-DCEB7F5D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319A28C5-5B42-43FD-8D62-4C8AC32AE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FEFF4D65-2199-4546-AB8B-60A227F9A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384E20F4-DC8C-426F-BA99-4580164DE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7D4B9EE7-941D-4DB7-B431-EC6CA78A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F4437C3F-53E0-4B9D-9D70-187AF3E1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93CFE540-F338-45D6-8A60-757FB9AE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AA17BE57-50CB-48E2-8DE3-03ED8A4A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CB23C-3B29-4EF6-AA9E-B5F615D1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0F34F593-0DA3-4F36-9EE6-5A4BCC46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13816C66-AA4A-4284-A0FA-AC5BDBB0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9DDB0678-1016-4450-A90B-425A784B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E97D4DA1-2FE9-4B08-8A3C-F7934F2D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5E41F832-19EE-453E-BFE3-72F75B30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4C741F54-533D-42EB-B51B-E64196A6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CC4E4127-8B0B-4C99-82E2-B6E87E3B7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FB2DB6F2-34CB-422B-A0CE-218317118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76196E51-5FD0-4ED5-96EA-B233A745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D36F7169-23E6-4EC8-832E-DEF0024C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A1B4-AA8D-44C9-8C0B-0E76AF01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2B6C2-70EB-4E87-9FC6-C09A48CE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7694DD2A-4CB0-402A-BA41-CABD816A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90078BA3-F2A0-4960-A5E7-DD2E34A8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61DE3BDB-265F-46F7-8C75-F5ABE68B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525A9C80-A426-4FED-AE39-47DA1DE7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6BDC216A-FBC4-4007-829C-1DDCF91B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4820E1B8-034D-4610-8D07-B072B80B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356F691B-9FF2-4B1A-92BD-A3A81E63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BCE57FD6-BE2E-49F4-8C41-00722189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55BD019D-BA34-4B40-B6AB-D2F69AF2C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2E263374-C23F-4FA0-B0C0-812DEC4B0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1DEFF-0F4C-4F1A-A151-286100C22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97C6411E-9761-4B31-9EBB-D6E0B6C5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3B6D3DB1-C4CE-4E4C-9FD1-EC84A723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D373A322-60FA-4213-830E-703A7E94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92708776-379B-4AE3-98BD-A31DA70A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8002EF56-5539-43E5-9B5B-C9134659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FA05382C-3B94-4ED8-9294-B5149D81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51226E5C-31A3-4E3A-9B94-9710D44D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9F1F5547-4E1B-4772-9950-30FEB0B2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AE30649E-2D8D-41B4-A6FF-D7A16C0B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E3C7594A-6B93-4A27-BBBA-0CB48A8DB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1674C-AFF3-4408-B2EC-A5DE8E7C0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79EEB574-DC8A-4A9E-868B-5F763FFAD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1950C78A-B177-4ECD-B55A-69E8BBEF9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5E61BACA-2EC8-40CA-A5FA-BAB0F001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5CDF54A9-CD41-428B-A325-3FC046B2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428E943F-B8CB-4CD8-978C-27C920BF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41451E51-45B0-430F-A88E-6171DFEA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E6A52A7E-DF27-46F7-BB20-7D3931EE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65FD8BFB-2F6D-48E2-BCAC-FCA67B87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165B21EC-3D1F-4BA6-9682-80F526BE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C1302FC2-E5CD-4634-976F-E9FE4ECF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965D4-9AC3-47FF-BED3-6E8E74989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30E9042C-E72F-47A2-9642-D145529E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95BA57DF-AE5D-4CE3-A030-40D99350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6903FBF4-687C-41D3-9E38-76E47C198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07FFF499-0454-47AD-923D-45C5F2E6D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E6E1C060-2A79-4164-84FD-A8690979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A3F2F37D-A4E0-4DC1-BCB1-7622A19A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0C67A2F4-3C7A-4C42-8CAE-877C2486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3CFE1FD8-020E-4F1B-9BDF-AA53C4D4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B1FAE12F-7138-47D5-AB15-5AE0392D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CC147C27-2BB8-495F-BDC0-7057A17D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DC1C8-ADC9-4AA1-9986-0B6B6D98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933C6847-C8C9-469A-AC1A-5A18AFB8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649E06FA-7ACB-4323-A0BE-7E1A0497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E0CBB780-18E0-4970-86F0-5302FFA5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218229A4-A5EE-484A-BDD3-3CBB230CE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81D440EF-7C2F-4A08-B8CF-E249F518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2D5E2349-D3B4-48C6-AC18-A2821510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8B9BA9BD-9FD1-44BB-AFF6-69CA5CBD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9D8FE682-ABBD-484F-B41C-438F1A33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98EEDF7D-2D55-42F8-B87C-D3B60B69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E2774C03-02A4-4E97-9C30-E7A41265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EE597-EE1D-495A-A4F3-BED2BC31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65AFFBE2-BD79-44CC-968C-B2D353CF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0951F91C-B908-4A27-8F65-2B364B5A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58D2EE96-2835-49E8-80C5-366F7D8C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942BF6A0-46E5-4A49-A243-D177DF91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3844B5CB-422B-4C0F-ABD5-0CF944C0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798E928B-C4C9-457A-8F33-BB95085DE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FDB35583-C8FA-4CDE-B806-A02ED7421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1E9F2DA0-BFB8-4AFC-9DF1-7FD1D2734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75DF73A0-5457-498A-AE99-877B13A6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64AA68C5-3D9B-4523-A15A-C902D66B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E147D-8160-4FDA-AB98-DE2E2A2C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EC038FE5-538C-4826-981F-BF6BD3BB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0AC0F7D4-668C-4381-80B8-FA19699A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1D85F5B9-F7DC-4779-AF6A-3AE30144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793F38EB-16B2-44FD-92F0-1CFEB4D0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F49B3D8E-C166-4F48-B6C0-0B9B0228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94491B42-0B84-4F99-99D0-F89F1299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C8F94D90-A260-48F0-ABC0-6D5D1029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EDE76832-217A-48CE-B538-F065F946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2AD93F1F-ED40-41C4-9EA6-DCAEDD1A6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D68CE00C-7E58-4A89-AEA8-DB9C97BE7C1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5DD69-FE9B-4F95-980E-6B7938EF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4AA2881C-3E6E-4749-8768-BADF79BFB292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44AEC77B-05F6-4DA3-9416-B9E7E0DAD043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9056BAB0-46D6-4780-9022-AC1CAB539AE0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E4B91603-37A8-4A4E-A6EA-D919AE386097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3A11848D-1DC8-4864-A7FE-2B637814C2DE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EE7CFC37-3328-4F81-82DF-73682AD35150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1A48CCF8-374F-41BB-9A2A-6955937968CB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7C3B86A2-BD5F-4581-92AE-9847D6BE6435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777937A1-81D7-4062-AD54-56009780489A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97885126-EF8A-4C65-9851-ACC8671E69A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3527E-DA51-4EE0-A53A-B3634D87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E4938648-D26F-4071-AA45-11A3420DD5EB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EC1ADDD-FA59-4792-B578-BF50CC04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93A95780-5764-43B9-A2E2-B5253556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3C2545E-D781-4063-8174-CF01E47C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624A37A-C488-4AAE-B13D-0DD44ECE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39ED7799-6DEA-49E2-AB9F-3F5FDC29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4CA66A3E-17F9-4C88-A021-97B85174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49C67D6-B47E-409F-BF68-F4102CE8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A394296E-3821-46B6-B7A1-9E25E9C7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6761D1F-2B6F-4566-9969-ACA58E48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9C0F6-A043-45FD-BFC7-3223D982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573204C-DFA2-4CC2-8626-F2390C11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0B582E5-BB6F-4454-9907-77571564A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C8BD14E9-AAFA-418C-B51F-5507ED51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3BF6EA9-3B21-448E-81D6-9549A1B29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9A29815B-F910-458D-ACDB-73135A8D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D9D4722E-D2F2-4A8B-8499-6C1CC447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23915EC-7FE8-4BAD-AA33-9D9B916B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1CB0767-AE83-4CB5-A187-2BBF1FAE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87557CA-1FAB-4E65-ABF8-F356CE87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28F4D7D-715D-4A5F-9D6A-669A9E12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D980-43F0-41D5-9840-1042649A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C56D4-0621-4B90-A26B-2759785B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96720CF-BE08-4BD8-8C6B-E6875645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AF8BC2E-2691-46F3-B471-E1CA4F7E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9A0FD74-456D-4D44-BCCA-5E45F0D0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FBB59BCF-CF7D-47CE-B417-49DDB5C96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51FBF9E-1389-4D2A-959D-E4A792157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77BC945-E875-4431-BF8D-04EBCEF00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7E1BD4B-E30A-4EF1-9BF7-874929D2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DC90904-ED6C-43B6-B6F0-F3CB48C0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DB1B6DD-D973-41FE-8B08-38F329FB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7791E02-246D-4AB8-92F4-F4D61397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BC42D-F32B-4EA4-B5E0-4860E1BF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4A53DB3-AF3F-437A-AEE6-8FB499AA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07A3515-FC00-4492-AF06-01CA394A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8129E71-EB39-4F45-A156-C106FBE1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903CDAC-B9A7-484F-84C9-7C98DB5A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2EE1FE46-3A4A-491D-A533-415BEC25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A1D38F5-00B4-465D-AA3A-BFFB0F11C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CCD1A7B7-FE79-4095-A290-5490E22F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4F6D197-D76D-46E1-AE47-511F0877F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B060E4B-3F60-4F6B-A258-5A7B63ED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835D962-2DA6-4FBF-8092-B31F95A1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D35F5-6CA0-4C82-A8B5-453B31C6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8E3F7459-AAB9-4F27-B2AD-2CDC62E2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6047C54-0AD3-4AF9-AD90-9495C1D2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E3D6008-722E-4F81-9C8A-62FAE158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6A71E35-CCBC-4D2B-B491-C61A0EA9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F2B8CA7-1C54-4F2B-B9B8-E7A4D079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FA4C6FE-474E-4DD0-B75E-0F9FAA8C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B49FB7D-89C3-4E44-A6BB-BA087C4E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30376A2-273D-48EF-939E-82BC87E5F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34338EC-7CBC-48FC-A7F3-03E252E81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3398FD0-7C10-4DE8-BC53-DA54D8F71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A6A8E-A28C-4625-A759-FF891BEEE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4BBDFF6-EA8B-4DD0-B804-588095C8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BA5EC76-1217-4EB5-97BA-5EA2D632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EEF6A6B-8D9A-4A0B-BCF0-445003AF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C2FB8B2-0207-4D9B-8C70-6AFDC6C7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3A26E04-3ABA-43B8-872C-B75AB710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49670E5D-1E2B-4BA3-8197-580D65B5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8ABCC819-3C3C-4F9E-BEFC-8C335354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85CB870E-9E09-43AD-8404-6D81B4EB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68AB599-5DCB-424D-8BCE-15F1853A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87CBE517-59A9-4EDC-BFBC-0903A914D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6F84C-E42C-4E00-B006-713E1C49A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F771EF64-E624-4DE0-9D24-EC865E78E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DAF2EB93-8FF1-4E2A-8784-E4158A2B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5EB23B3-06C8-410C-83A6-F7527ADB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0BCC44E1-4187-49ED-B40A-4216397F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99E5D53D-0EB0-45B0-B68A-CB270CC2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CC9FE6E-5BFF-4221-B94F-0ACBA235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E9A0D05-8FA4-4BB9-9977-3C57E332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D10BB75-8031-4729-8452-1966E60F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A3017F7C-1A73-4690-A6CB-B7D1192D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0408AE4-48B8-4B28-B953-F92F44A3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64025-7EB6-4D4B-8182-560AFFC5A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0C9F14E0-1E4D-442F-8CD8-CDFB7D47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DF19EC41-2BD0-4718-9258-D84DCC450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AFCC5C6-5E53-4315-8255-038B49156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6593F5F-89FD-423B-8CAF-A6ABB869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4469A22-1AAF-473F-B0B2-C682A2D7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54FA011-A172-4415-B504-4E877016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9FB8F8C-7D85-4D45-9176-A509E434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30B6111-9588-484F-80F6-D730A0B9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A2175D8-0CDF-41D3-9123-566D3ECD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351FB15-3AB8-4F79-AAA4-268293FF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AA438-5237-433C-A2BB-9A2AC7E1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0A79FD86-1C88-4D2A-BF7F-353CEB40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BAE824B-511D-4622-8111-FF5DC2F4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8A674C9-E830-4F95-BD73-BF645AE8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B32323C7-5DA6-4509-BFF7-63551D993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15E6D14E-8755-498E-8B03-D2311364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DD3A719-45BA-44AB-9D5F-45375569D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2E07D82-1815-486D-91DE-CA1284D6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23313C2-F507-4645-8B9D-9C903486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C6362DF-D659-403A-B316-5507795D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B4669C2-6A41-490D-8723-00084306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26864-A886-4312-92AE-D4479CD2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0AAEF3E-AF89-4D9B-82A8-17DB3AE4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09979CC-0646-468D-BC59-6A9BE84F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ACBEB44-7C9F-48B9-A70C-1A2B028E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9CDC90D-711D-4BBE-98C8-693FC9CF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80E19B7-685E-4E24-B433-CD5418EC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353CC8D-881C-4259-8A4B-C1E45E4F5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67AA6058-3F5D-440C-B0B9-43AE30CB1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2E113BC-1479-4FFD-860D-570FCB5CD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D4DC9BC-1144-4566-9BB2-85C19BD3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093AA02-E9EF-4FA7-A311-2B4A7D47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B50D6-10A8-47D0-8C14-01ECC804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BC5CCC7-CFAC-4693-B20B-E7F2AD03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E5AE41B5-6083-4CA7-8A5C-F0BC5059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EECEA530-916C-4E83-8F2E-2123E4CC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F96C5D15-346F-4383-BF17-D88CDAF8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848A7C0-0E46-475E-9AB4-1C477447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70351DC4-5311-4FE5-9044-E7E0810E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7579A5EE-6015-414D-A533-2791C7BF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AB8E75F-6295-4586-9B02-BB891A888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8C437F4-7C2F-467D-9815-0AEFD2311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CA28A125-FE3B-4D33-ABA8-48927442F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50CCF-8CF3-4C5D-887F-025C5651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2EC3BC6F-CBB0-4E21-B1ED-F52D4C2D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A2BB8432-53E7-4391-B2E4-5E86159E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DACF1E4B-EBA0-4813-837E-8D279D5E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FADD849-65CD-48AF-9E05-E5A2E6C5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AAFF6DB8-A903-436D-A1CB-8330285F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957908F3-49DA-424C-B8AA-0B93CD07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487919B-F050-46BA-BC0E-C5494AB9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A529149-5EE5-4EF5-AEEA-298FD66F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9A7B1D35-6D96-4138-A205-704441A7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DE578C3-299A-4F88-AF5A-5747BBFBC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24DD-83EF-4158-9571-BA47CA1B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9F83A-0422-405E-86A0-324269EF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2C38CEE8-CCA1-46A3-AE5F-2CF71BB44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0E151450-CB83-4520-BBEF-59CBAD12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664629EA-93A3-436B-888F-7594658E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89511DC9-999F-4752-B6DA-628DD0B1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6A37F074-4B88-4391-AAF6-A809F395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E898C51-5D4B-473A-8E5A-A8F1DDEA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355DC7CF-8B71-435F-BDA9-7A537A8B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8FE058D2-09AD-4D8D-BA77-8802D8D1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6E6FD9E9-FC0B-418C-8159-C631FA00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324ACA49-0007-4B30-AAF3-1CD0CFDC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E76FB-57CA-4850-8B15-4DD27144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BA72E0EA-ACDE-45EA-9314-211EB003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F285A8A6-ED8C-41DC-866F-55DBDC75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F51E742-D292-4F06-A439-AB41B07CC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5EA43AE0-36A3-49EF-BC93-1A585AD1D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8A1114A-5F84-409A-9081-3CAABA88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E04190A2-0A13-409D-8448-4C59AA18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4B78FB41-5BB2-4C81-AB60-FF7B41E5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A193488F-1A4E-4FC7-BC30-512934CC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DD274DB3-325C-4F34-BC87-27A77842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48A82F81-BB43-417B-B6DF-7B2E9A2A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55584-1B62-4DC0-ADC0-9C4599FB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F4FD6FAC-67C2-49B1-920F-7BFA908C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B62BA52C-0275-41DB-A74D-D2AE3114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E4A9049F-F2CF-4310-A15D-A1A0C554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30F1B4F9-AD76-4E14-B1E0-E46C40A5A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9BB657B5-74B5-441E-8C60-E0392C183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6806BF88-4271-4211-8EAF-66BF7B045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2591F0A9-2993-4E60-BFCD-6F3666CE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9F875B81-C930-4393-AC3E-F4346FB2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92F7B9B3-F28B-4CE5-A833-77857240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EC1CAB2A-47DE-4515-9784-D8DFA5AF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CC8D3-3B4B-4CA0-9B1F-0F60D2C1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114D98A5-984E-4193-992B-2A6EC415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48E6E7E3-CFCE-4FF4-8396-68C1E3B6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E9D8ACAD-14E3-4470-ADBB-19DAB333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BBD947D-6F75-4989-9CE3-7B5ADAEC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76CB62A1-3DA3-4E02-B296-41401591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78FCDB73-A11B-4E82-8E35-122A9E8A3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A22038B6-6927-421D-8E3D-7E988E9C0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1164CAD9-78FC-46F3-830C-1CFD35758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10A96414-1085-4FA1-B0EF-09B6B6AA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EA7628FF-BC9E-4697-9598-A636F4B0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C917A-F913-474C-86AC-FB1272BD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E23A516E-AE7D-49A8-B2E1-799EC7A3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CB8CBDE5-C511-4952-86EB-F8AA45C4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CD53422E-C1AF-4199-AA0D-7F8D17B4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04D91385-32F9-40DD-A9A0-A857378C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3BD65EA8-4E37-450F-8209-DFA376E7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0FDD77AD-83B5-4BDE-997C-92C441B1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E84B85EB-F5DE-459D-A197-10B5089B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943A9BD4-10A2-45A5-B0D6-004A127C8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61B2E9C2-9852-4631-8E03-13B87CB1C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0617C76E-7C33-44E4-8B0B-58FF2F0E3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219ED-CD08-485A-B5AB-572A7EE75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9E239E1A-8EFA-4098-9D80-8FDA9AEB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AC087937-E9E9-40E5-BE00-D5834E6D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0A093A3A-47C8-450F-9721-6718D851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CA072501-BACC-49CB-9F6B-974D4583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2FAEB5A2-5A6C-41D1-9155-4045DD5A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845DCCA9-85D6-4D61-B072-6076CAF1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A3C7241A-F19B-4817-B5FA-71059723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661C13CE-3403-4A02-B38E-377CF4BB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5ABD35DC-A817-4BEE-9EC5-DB39558A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87CC80C1-0C96-43B6-9C6E-AFE545D70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F81F5-C205-425B-BA45-FBADA763A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12D8D07F-E639-44EE-B4D9-0FDD70A7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6F9268AB-C35C-4526-87B8-DA03CF0E0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2EDD748F-AFB8-4A16-8141-CD57DB56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83DE8F5E-3358-4860-991C-C38C7D45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2309532C-9C64-44F9-8406-0B1204D3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E7A168BE-A8C6-4C67-8160-5AF0058A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E5FCD09E-355D-4880-B130-046E4896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95D38D25-ED3E-4A15-B109-05D70C16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9B00A093-463F-40FA-A6A1-352346E4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A2D2DD53-724F-4012-9C55-BA74BF9D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28AE06-582A-4A99-9831-E334DD3D7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984EAAFD-EFCF-4250-A962-EBD6E3F9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535EEF99-C1A4-4BE9-AD44-2C5115697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DAD4AEF2-C0FD-4F1A-8B55-6F1175B28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F025B14C-D49B-499C-A504-CCA0931FF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6201E18D-AB66-4A72-B7FB-9899F61F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6E884896-2B32-4E81-954B-3398C8CC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3F9C9C9C-5E7D-4B64-A372-FD9CFF99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386A0D86-2CAF-4907-A7D3-C9DB69B4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58363F03-BDFA-434B-88A3-D39F1426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A93C9EB8-B329-40A8-B106-FA672A76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EC23E-94B3-4803-B2D9-5D5D1D33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F6AE0BD0-1B1B-40B2-A619-9445B170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A3F9618A-7BBD-4829-8914-88AF30DF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E5D94CD2-9402-4FEA-AF92-80492F2B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AAD2163B-D374-4380-8C9A-AE1A19827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62D53D88-436A-4EA7-A608-3919F1A7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9A4CD9A2-939B-4E34-B9F3-F2F1D7151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0D2C2DEA-C276-4AD9-B8A2-4E7C5C9F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2D286635-226A-487A-85FD-B711E930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FD863E1B-F4D3-4196-A022-793255BE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F682388D-3ECB-4B26-AB59-22D69040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34067-6A3D-48B5-8DBD-D4845E8F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9F6C713E-732A-472D-8A5E-97548BA0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A946D49E-E381-4311-B97A-4EBEDFD4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64437AD7-BFF7-471F-A93D-E7A0F0C5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82C1FA30-61EC-4049-87ED-2E1E7AF1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43806C71-978D-4C44-B138-573F8C2E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2A6CD5B3-D015-4AFB-9875-22D12B0BF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A26FF20A-BA52-4B37-A0E1-B596BA9AA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DF946091-3C0E-4039-887D-C587A8BBE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6FB5FD11-30B2-4DC2-BD59-29C66636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B960CE8F-BFA0-4EAC-985C-63287A91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57.xml"/><Relationship Id="rId4" Type="http://schemas.openxmlformats.org/officeDocument/2006/relationships/slideLayout" Target="../slideLayouts/slideLayout758.xml"/><Relationship Id="rId5" Type="http://schemas.openxmlformats.org/officeDocument/2006/relationships/slideLayout" Target="../slideLayouts/slideLayout759.xml"/><Relationship Id="rId6" Type="http://schemas.openxmlformats.org/officeDocument/2006/relationships/slideLayout" Target="../slideLayouts/slideLayout760.xml"/><Relationship Id="rId7" Type="http://schemas.openxmlformats.org/officeDocument/2006/relationships/slideLayout" Target="../slideLayouts/slideLayout761.xml"/><Relationship Id="rId8" Type="http://schemas.openxmlformats.org/officeDocument/2006/relationships/slideLayout" Target="../slideLayouts/slideLayout762.xml"/><Relationship Id="rId9" Type="http://schemas.openxmlformats.org/officeDocument/2006/relationships/slideLayout" Target="../slideLayouts/slideLayout763.xml"/><Relationship Id="rId10" Type="http://schemas.openxmlformats.org/officeDocument/2006/relationships/slideLayout" Target="../slideLayouts/slideLayout764.xml"/><Relationship Id="rId11" Type="http://schemas.openxmlformats.org/officeDocument/2006/relationships/slideLayout" Target="../slideLayouts/slideLayout765.xml"/><Relationship Id="rId12" Type="http://schemas.openxmlformats.org/officeDocument/2006/relationships/slideLayout" Target="../slideLayouts/slideLayout766.xml"/><Relationship Id="rId13" Type="http://schemas.openxmlformats.org/officeDocument/2006/relationships/slideLayout" Target="../slideLayouts/slideLayout767.xml"/><Relationship Id="rId14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69.xml"/><Relationship Id="rId4" Type="http://schemas.openxmlformats.org/officeDocument/2006/relationships/slideLayout" Target="../slideLayouts/slideLayout770.xml"/><Relationship Id="rId5" Type="http://schemas.openxmlformats.org/officeDocument/2006/relationships/slideLayout" Target="../slideLayouts/slideLayout771.xml"/><Relationship Id="rId6" Type="http://schemas.openxmlformats.org/officeDocument/2006/relationships/slideLayout" Target="../slideLayouts/slideLayout772.xml"/><Relationship Id="rId7" Type="http://schemas.openxmlformats.org/officeDocument/2006/relationships/slideLayout" Target="../slideLayouts/slideLayout773.xml"/><Relationship Id="rId8" Type="http://schemas.openxmlformats.org/officeDocument/2006/relationships/slideLayout" Target="../slideLayouts/slideLayout774.xml"/><Relationship Id="rId9" Type="http://schemas.openxmlformats.org/officeDocument/2006/relationships/slideLayout" Target="../slideLayouts/slideLayout775.xml"/><Relationship Id="rId10" Type="http://schemas.openxmlformats.org/officeDocument/2006/relationships/slideLayout" Target="../slideLayouts/slideLayout776.xml"/><Relationship Id="rId11" Type="http://schemas.openxmlformats.org/officeDocument/2006/relationships/slideLayout" Target="../slideLayouts/slideLayout777.xml"/><Relationship Id="rId12" Type="http://schemas.openxmlformats.org/officeDocument/2006/relationships/slideLayout" Target="../slideLayouts/slideLayout778.xml"/><Relationship Id="rId13" Type="http://schemas.openxmlformats.org/officeDocument/2006/relationships/slideLayout" Target="../slideLayouts/slideLayout779.xml"/><Relationship Id="rId14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B1C6-FFF4-4401-BA95-DC2029978938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23EC0B-270B-42A2-B030-BE5BD8D4F32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C24F29-BA7E-49C1-81CF-30F31EE832E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E94B33-8095-49B8-A3B9-E95ACCD5375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D54CE9-9C6F-41C5-9D2B-D1273AD69CA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962417-AB66-4369-BCE8-B7276E646EE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2A4777-1BB2-499E-BB27-F09430DF76AC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9555AA-91DF-4C1A-958A-3276110A861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B33317-A82F-4D0B-B191-2C84AFF48BD6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BD1D43-159F-4773-8E57-49EA7EA940D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F7FC-8C09-480C-BB23-C753DDCE5BC4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C0DD4E-760E-4219-9682-6DFE86A75C6C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dt" idx="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 type="ftr" idx="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 type="sldNum" idx="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F5956F-5254-4871-BB88-B9E9DE4A3D5C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DB8994-1FCA-4961-958A-DD01CC755FF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dt" idx="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ftr" idx="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 type="sldNum" idx="6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3E5572-4ACE-48F4-9AD1-52555E5EEF7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7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A1E901-127B-4325-B26E-6BF8BB5215B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76428A-DFCE-44CE-9ED0-524A8F4656C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dt" idx="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 type="ftr" idx="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 type="sldNum" idx="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96D131-AA76-48CB-A6A9-435D535A625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 type="dt" idx="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 type="ftr" idx="7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 type="sldNum" idx="8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B3363A-0629-4E3D-B51F-F4E27D53F496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dt" idx="8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 type="ftr" idx="8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 type="sldNum" idx="8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46CF41-896A-486B-9B0C-4D1477AA86E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dt" idx="8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ftr" idx="8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 type="sldNum" idx="8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567FAE-BDA4-4CCB-93E2-01CF619FD13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16E1-E55D-4449-B297-D3B6D14A4F70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dt" idx="8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 type="ftr" idx="8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 type="sldNum" idx="8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C51F80-8C4A-4DEA-838E-3A15267A61A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9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9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9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207F23-FCDD-46DE-9BF8-24AC167DAEC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dt" idx="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ftr" idx="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 type="sldNum" idx="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EE1E9D-8B34-4A22-82B7-EAFFE06B29F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 type="dt" idx="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 type="ftr" idx="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 type="sldNum" idx="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107D17-ED35-4A98-99A7-24DA2D35E1E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dt" idx="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 type="ftr" idx="1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 type="sldNum" idx="1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8EEACB-1AA8-4302-8B35-2BAC1097E37C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dt" idx="1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 type="ftr" idx="1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 type="sldNum" idx="1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B77E08-3615-4A12-A72A-38D77E370685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 type="dt" idx="1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 type="ftr" idx="1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 type="sldNum" idx="1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04721A-8EB2-40A5-8FEA-ACD98B006EB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1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1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1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F76DCF-8E8A-45E1-8ABA-E749D8664C9C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 type="dt" idx="1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 type="ftr" idx="1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 type="sldNum" idx="1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762DD1-EED9-45D7-BBBE-BB0EDE344DB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 type="dt" idx="1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 type="ftr" idx="1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 type="sldNum" idx="1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F32048-BA53-4CE9-BC61-65839614D48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A6E29D-5A80-4FA0-89A7-3CE470CE6B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 type="dt" idx="1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 type="ftr" idx="1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5"/>
          <p:cNvSpPr>
            <a:spLocks noGrp="1"/>
          </p:cNvSpPr>
          <p:nvPr>
            <p:ph type="sldNum" idx="1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BF78B8-CF34-4D1D-B1F1-5B9D683B6FCC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 type="dt" idx="1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 type="ftr" idx="1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5"/>
          <p:cNvSpPr>
            <a:spLocks noGrp="1"/>
          </p:cNvSpPr>
          <p:nvPr>
            <p:ph type="sldNum" idx="1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C56EA7-1DBF-4630-AB62-46A97EE6E75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 type="ftr" idx="1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 type="dt" idx="1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 type="ftr" idx="1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5"/>
          <p:cNvSpPr>
            <a:spLocks noGrp="1"/>
          </p:cNvSpPr>
          <p:nvPr>
            <p:ph type="sldNum" idx="1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B5A45A-3D87-462F-B112-2372915A34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 type="dt" idx="1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 type="ftr" idx="1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5"/>
          <p:cNvSpPr>
            <a:spLocks noGrp="1"/>
          </p:cNvSpPr>
          <p:nvPr>
            <p:ph type="sldNum" idx="1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D930C5-7750-4941-8E12-D44C6B68C6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 type="dt" idx="1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 type="ftr" idx="1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 type="sldNum" idx="1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51E9EB-FF2C-4B95-B4D0-8C6D11447D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 type="dt" idx="1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 type="ftr" idx="1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 type="sldNum" idx="1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EAA69C-B305-4554-A0A7-44BF700BB7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 type="dt" idx="1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 type="ftr" idx="1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5"/>
          <p:cNvSpPr>
            <a:spLocks noGrp="1"/>
          </p:cNvSpPr>
          <p:nvPr>
            <p:ph type="sldNum" idx="1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7CEE66-199E-48EE-94CF-0E7B2C4323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 type="dt" idx="1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PlaceHolder 4"/>
          <p:cNvSpPr>
            <a:spLocks noGrp="1"/>
          </p:cNvSpPr>
          <p:nvPr>
            <p:ph type="ftr" idx="1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5"/>
          <p:cNvSpPr>
            <a:spLocks noGrp="1"/>
          </p:cNvSpPr>
          <p:nvPr>
            <p:ph type="sldNum" idx="1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791752-A83B-4CD9-805F-E19BBDBCF8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 type="dt" idx="1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 type="ftr" idx="1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5"/>
          <p:cNvSpPr>
            <a:spLocks noGrp="1"/>
          </p:cNvSpPr>
          <p:nvPr>
            <p:ph type="sldNum" idx="1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31B3BD-65E3-45A6-8456-41127465A0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5269-2465-4742-9DF8-87CCDC38597D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 type="dt" idx="1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 type="ftr" idx="1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5"/>
          <p:cNvSpPr>
            <a:spLocks noGrp="1"/>
          </p:cNvSpPr>
          <p:nvPr>
            <p:ph type="sldNum" idx="1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3E8303-1C20-4A42-BEEC-541BFFE00D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 type="dt" idx="1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 type="ftr" idx="1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5"/>
          <p:cNvSpPr>
            <a:spLocks noGrp="1"/>
          </p:cNvSpPr>
          <p:nvPr>
            <p:ph type="sldNum" idx="1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386C0C-0723-460E-AC65-9F6BF6442C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 type="dt" idx="1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 type="ftr" idx="1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5"/>
          <p:cNvSpPr>
            <a:spLocks noGrp="1"/>
          </p:cNvSpPr>
          <p:nvPr>
            <p:ph type="sldNum" idx="1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1857A6-AE24-4F37-890C-AFF820BB82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 type="dt" idx="1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 type="ftr" idx="1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5"/>
          <p:cNvSpPr>
            <a:spLocks noGrp="1"/>
          </p:cNvSpPr>
          <p:nvPr>
            <p:ph type="sldNum" idx="1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2E3EA6-2DAB-46C2-B0D6-2FA90692D3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 type="dt" idx="1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4"/>
          <p:cNvSpPr>
            <a:spLocks noGrp="1"/>
          </p:cNvSpPr>
          <p:nvPr>
            <p:ph type="ftr" idx="1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5"/>
          <p:cNvSpPr>
            <a:spLocks noGrp="1"/>
          </p:cNvSpPr>
          <p:nvPr>
            <p:ph type="sldNum" idx="1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C36FDE-2EBF-47EA-AB78-337C48886E42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 type="dt" idx="1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 type="ftr" idx="1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 type="sldNum" idx="1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A21A3F-4941-4C6F-A038-8349CCD61A7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 type="dt" idx="1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PlaceHolder 4"/>
          <p:cNvSpPr>
            <a:spLocks noGrp="1"/>
          </p:cNvSpPr>
          <p:nvPr>
            <p:ph type="ftr" idx="1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5"/>
          <p:cNvSpPr>
            <a:spLocks noGrp="1"/>
          </p:cNvSpPr>
          <p:nvPr>
            <p:ph type="sldNum" idx="1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82FBE6-8FC1-4C15-9CBE-3CD02750D49A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 type="dt" idx="1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 type="ftr" idx="1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 type="sldNum" idx="1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E13E76-4079-4B8D-B330-F4F7B8A93F12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 type="dt" idx="1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 type="ftr" idx="1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PlaceHolder 5"/>
          <p:cNvSpPr>
            <a:spLocks noGrp="1"/>
          </p:cNvSpPr>
          <p:nvPr>
            <p:ph type="sldNum" idx="1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9DE356-79D6-4B92-B018-E603055B841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3" name="PlaceHolder 3"/>
          <p:cNvSpPr>
            <a:spLocks noGrp="1"/>
          </p:cNvSpPr>
          <p:nvPr>
            <p:ph type="dt" idx="1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PlaceHolder 4"/>
          <p:cNvSpPr>
            <a:spLocks noGrp="1"/>
          </p:cNvSpPr>
          <p:nvPr>
            <p:ph type="ftr" idx="1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5" name="PlaceHolder 5"/>
          <p:cNvSpPr>
            <a:spLocks noGrp="1"/>
          </p:cNvSpPr>
          <p:nvPr>
            <p:ph type="sldNum" idx="1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C329DE-54AE-493F-A93D-A857B8005BF7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DCF6D9-76DF-4DFE-A345-98626E0DD96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218AF5-DA2A-4385-8C81-F946F754F5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 type="dt" idx="1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PlaceHolder 4"/>
          <p:cNvSpPr>
            <a:spLocks noGrp="1"/>
          </p:cNvSpPr>
          <p:nvPr>
            <p:ph type="ftr" idx="1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7" name="PlaceHolder 5"/>
          <p:cNvSpPr>
            <a:spLocks noGrp="1"/>
          </p:cNvSpPr>
          <p:nvPr>
            <p:ph type="sldNum" idx="1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278241-6C7A-4BBE-91EE-DC70FFFA7DB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 type="dt" idx="1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PlaceHolder 4"/>
          <p:cNvSpPr>
            <a:spLocks noGrp="1"/>
          </p:cNvSpPr>
          <p:nvPr>
            <p:ph type="ftr" idx="1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8" name="PlaceHolder 5"/>
          <p:cNvSpPr>
            <a:spLocks noGrp="1"/>
          </p:cNvSpPr>
          <p:nvPr>
            <p:ph type="sldNum" idx="1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A3FE05-ED9E-4327-8734-EEFD556275CC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 type="dt" idx="1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 type="ftr" idx="1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PlaceHolder 5"/>
          <p:cNvSpPr>
            <a:spLocks noGrp="1"/>
          </p:cNvSpPr>
          <p:nvPr>
            <p:ph type="sldNum" idx="1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2B140A-3E55-4175-B6EB-0B086EB5D3A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8" name="PlaceHolder 3"/>
          <p:cNvSpPr>
            <a:spLocks noGrp="1"/>
          </p:cNvSpPr>
          <p:nvPr>
            <p:ph type="dt" idx="1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PlaceHolder 4"/>
          <p:cNvSpPr>
            <a:spLocks noGrp="1"/>
          </p:cNvSpPr>
          <p:nvPr>
            <p:ph type="ftr" idx="1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0" name="PlaceHolder 5"/>
          <p:cNvSpPr>
            <a:spLocks noGrp="1"/>
          </p:cNvSpPr>
          <p:nvPr>
            <p:ph type="sldNum" idx="1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FEDDBA-2943-46E7-8743-218314A0EDC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 type="dt" idx="1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4"/>
          <p:cNvSpPr>
            <a:spLocks noGrp="1"/>
          </p:cNvSpPr>
          <p:nvPr>
            <p:ph type="ftr" idx="1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PlaceHolder 5"/>
          <p:cNvSpPr>
            <a:spLocks noGrp="1"/>
          </p:cNvSpPr>
          <p:nvPr>
            <p:ph type="sldNum" idx="1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DEA5B5-43E9-4394-87B1-44F0E2E76976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3"/>
    <p:sldLayoutId id="2147484469" r:id="rId4"/>
    <p:sldLayoutId id="2147484470" r:id="rId5"/>
    <p:sldLayoutId id="2147484471" r:id="rId6"/>
    <p:sldLayoutId id="2147484472" r:id="rId7"/>
    <p:sldLayoutId id="2147484473" r:id="rId8"/>
    <p:sldLayoutId id="2147484474" r:id="rId9"/>
    <p:sldLayoutId id="2147484475" r:id="rId10"/>
    <p:sldLayoutId id="2147484476" r:id="rId11"/>
    <p:sldLayoutId id="2147484477" r:id="rId12"/>
    <p:sldLayoutId id="2147484478" r:id="rId13"/>
    <p:sldLayoutId id="2147484479" r:id="rId14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 type="sldNum" idx="19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PlaceHolder 4"/>
          <p:cNvSpPr>
            <a:spLocks noGrp="1"/>
          </p:cNvSpPr>
          <p:nvPr>
            <p:ph type="ftr" idx="1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3"/>
    <p:sldLayoutId id="2147484482" r:id="rId4"/>
    <p:sldLayoutId id="2147484483" r:id="rId5"/>
    <p:sldLayoutId id="2147484484" r:id="rId6"/>
    <p:sldLayoutId id="2147484485" r:id="rId7"/>
    <p:sldLayoutId id="2147484486" r:id="rId8"/>
    <p:sldLayoutId id="2147484487" r:id="rId9"/>
    <p:sldLayoutId id="2147484488" r:id="rId10"/>
    <p:sldLayoutId id="2147484489" r:id="rId11"/>
    <p:sldLayoutId id="2147484490" r:id="rId12"/>
    <p:sldLayoutId id="2147484491" r:id="rId13"/>
    <p:sldLayoutId id="2147484492" r:id="rId14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dt" idx="1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57F4-0316-4FF0-892B-165E0F219036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ftr" idx="1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3" name="PlaceHolder 5"/>
          <p:cNvSpPr>
            <a:spLocks noGrp="1"/>
          </p:cNvSpPr>
          <p:nvPr>
            <p:ph type="sldNum" idx="1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0E52-8A8F-4C58-A1F8-7EC6C054DB5F}" type="slidenum">
              <a:rPr b="0" lang="en-US" sz="10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 type="dt" idx="1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AFC5-B794-4EAE-A8B5-4F91A0C1B60A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 type="ftr" idx="1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4" name="PlaceHolder 5"/>
          <p:cNvSpPr>
            <a:spLocks noGrp="1"/>
          </p:cNvSpPr>
          <p:nvPr>
            <p:ph type="sldNum" idx="1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4392-A4AB-4C09-B329-2270C96C6F11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 type="dt" idx="1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2669-7D2E-46CC-94BE-CC32AC43556F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PlaceHolder 4"/>
          <p:cNvSpPr>
            <a:spLocks noGrp="1"/>
          </p:cNvSpPr>
          <p:nvPr>
            <p:ph type="ftr" idx="2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PlaceHolder 5"/>
          <p:cNvSpPr>
            <a:spLocks noGrp="1"/>
          </p:cNvSpPr>
          <p:nvPr>
            <p:ph type="sldNum" idx="2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DFAB-61D0-4C77-A3EF-221C6F6C2B1D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4" name="PlaceHolder 3"/>
          <p:cNvSpPr>
            <a:spLocks noGrp="1"/>
          </p:cNvSpPr>
          <p:nvPr>
            <p:ph type="dt" idx="2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3788-1639-4795-BBB9-59F1F94C2F11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PlaceHolder 4"/>
          <p:cNvSpPr>
            <a:spLocks noGrp="1"/>
          </p:cNvSpPr>
          <p:nvPr>
            <p:ph type="ftr" idx="2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6" name="PlaceHolder 5"/>
          <p:cNvSpPr>
            <a:spLocks noGrp="1"/>
          </p:cNvSpPr>
          <p:nvPr>
            <p:ph type="sldNum" idx="2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31A5-7079-4FD3-ADC3-3B5FAF815A67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7BF2C6-52C4-438F-AD8A-8583C41E80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5" name="PlaceHolder 3"/>
          <p:cNvSpPr>
            <a:spLocks noGrp="1"/>
          </p:cNvSpPr>
          <p:nvPr>
            <p:ph type="dt" idx="2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9B88-9DCE-412E-9E24-9ED490E7B6C7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4"/>
          <p:cNvSpPr>
            <a:spLocks noGrp="1"/>
          </p:cNvSpPr>
          <p:nvPr>
            <p:ph type="ftr" idx="2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7" name="PlaceHolder 5"/>
          <p:cNvSpPr>
            <a:spLocks noGrp="1"/>
          </p:cNvSpPr>
          <p:nvPr>
            <p:ph type="sldNum" idx="2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B0CC-45AA-4158-BCD2-EB6FDB3B6B58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 type="dt" idx="2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9C02-50B8-4E3B-9F64-0D956F6D4D9D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PlaceHolder 4"/>
          <p:cNvSpPr>
            <a:spLocks noGrp="1"/>
          </p:cNvSpPr>
          <p:nvPr>
            <p:ph type="ftr" idx="2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8" name="PlaceHolder 5"/>
          <p:cNvSpPr>
            <a:spLocks noGrp="1"/>
          </p:cNvSpPr>
          <p:nvPr>
            <p:ph type="sldNum" idx="2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946F-4932-47B9-89DB-0C81C1810965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 type="dt" idx="2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5259-42B0-497D-93EE-60F90C9F8A47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 type="ftr" idx="2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9" name="PlaceHolder 5"/>
          <p:cNvSpPr>
            <a:spLocks noGrp="1"/>
          </p:cNvSpPr>
          <p:nvPr>
            <p:ph type="sldNum" idx="2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8FFF-E21B-48F5-8A8D-51AC50851CA5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 type="dt" idx="2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0C27-636C-4102-A521-47EFD1404628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PlaceHolder 4"/>
          <p:cNvSpPr>
            <a:spLocks noGrp="1"/>
          </p:cNvSpPr>
          <p:nvPr>
            <p:ph type="ftr" idx="2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0" name="PlaceHolder 5"/>
          <p:cNvSpPr>
            <a:spLocks noGrp="1"/>
          </p:cNvSpPr>
          <p:nvPr>
            <p:ph type="sldNum" idx="2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70E9-6584-419C-A8F8-0A89D25F42AB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9" name="PlaceHolder 3"/>
          <p:cNvSpPr>
            <a:spLocks noGrp="1"/>
          </p:cNvSpPr>
          <p:nvPr>
            <p:ph type="dt" idx="2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C02B-5FA6-4365-AFD7-2E49FC9CCA3B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PlaceHolder 4"/>
          <p:cNvSpPr>
            <a:spLocks noGrp="1"/>
          </p:cNvSpPr>
          <p:nvPr>
            <p:ph type="ftr" idx="2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1" name="PlaceHolder 5"/>
          <p:cNvSpPr>
            <a:spLocks noGrp="1"/>
          </p:cNvSpPr>
          <p:nvPr>
            <p:ph type="sldNum" idx="2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85C4-AAAA-4762-A2E8-A93B0D4716DB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 type="dt" idx="2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725F-5A6F-411E-B771-9E9E164317D5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 type="ftr" idx="2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2" name="PlaceHolder 5"/>
          <p:cNvSpPr>
            <a:spLocks noGrp="1"/>
          </p:cNvSpPr>
          <p:nvPr>
            <p:ph type="sldNum" idx="2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F718-0573-4970-8030-DF631148C286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1" name="PlaceHolder 3"/>
          <p:cNvSpPr>
            <a:spLocks noGrp="1"/>
          </p:cNvSpPr>
          <p:nvPr>
            <p:ph type="dt" idx="2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0678-F63D-402F-A8DA-04C54F725EAB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PlaceHolder 4"/>
          <p:cNvSpPr>
            <a:spLocks noGrp="1"/>
          </p:cNvSpPr>
          <p:nvPr>
            <p:ph type="ftr" idx="2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3" name="PlaceHolder 5"/>
          <p:cNvSpPr>
            <a:spLocks noGrp="1"/>
          </p:cNvSpPr>
          <p:nvPr>
            <p:ph type="sldNum" idx="2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BC25-16CE-4BBC-8EBC-A2DD1C82D2C8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 type="dt" idx="2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 type="ftr" idx="2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4" name="PlaceHolder 5"/>
          <p:cNvSpPr>
            <a:spLocks noGrp="1"/>
          </p:cNvSpPr>
          <p:nvPr>
            <p:ph type="sldNum" idx="2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7B572F-7851-4A54-9DBD-7F16CED0FC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3" name="PlaceHolder 3"/>
          <p:cNvSpPr>
            <a:spLocks noGrp="1"/>
          </p:cNvSpPr>
          <p:nvPr>
            <p:ph type="dt" idx="2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PlaceHolder 4"/>
          <p:cNvSpPr>
            <a:spLocks noGrp="1"/>
          </p:cNvSpPr>
          <p:nvPr>
            <p:ph type="ftr" idx="2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5" name="PlaceHolder 5"/>
          <p:cNvSpPr>
            <a:spLocks noGrp="1"/>
          </p:cNvSpPr>
          <p:nvPr>
            <p:ph type="sldNum" idx="2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F0124C-0337-44CF-9B68-A8B674D8DE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 type="dt" idx="2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 type="ftr" idx="2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6" name="PlaceHolder 5"/>
          <p:cNvSpPr>
            <a:spLocks noGrp="1"/>
          </p:cNvSpPr>
          <p:nvPr>
            <p:ph type="sldNum" idx="2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2C77D1-7555-465B-AD1B-CF1C21E886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C217BD-7D1C-4344-8D1D-4DE328472F7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5" name="PlaceHolder 3"/>
          <p:cNvSpPr>
            <a:spLocks noGrp="1"/>
          </p:cNvSpPr>
          <p:nvPr>
            <p:ph type="dt" idx="2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PlaceHolder 4"/>
          <p:cNvSpPr>
            <a:spLocks noGrp="1"/>
          </p:cNvSpPr>
          <p:nvPr>
            <p:ph type="ftr" idx="2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7" name="PlaceHolder 5"/>
          <p:cNvSpPr>
            <a:spLocks noGrp="1"/>
          </p:cNvSpPr>
          <p:nvPr>
            <p:ph type="sldNum" idx="2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965BD3-D16D-404A-BEA1-13DF0CF940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 type="dt" idx="2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 type="ftr" idx="2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8" name="PlaceHolder 5"/>
          <p:cNvSpPr>
            <a:spLocks noGrp="1"/>
          </p:cNvSpPr>
          <p:nvPr>
            <p:ph type="sldNum" idx="2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CA21C8-56CE-42F1-9185-CF9CCFA6F5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7" name="PlaceHolder 3"/>
          <p:cNvSpPr>
            <a:spLocks noGrp="1"/>
          </p:cNvSpPr>
          <p:nvPr>
            <p:ph type="dt" idx="2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PlaceHolder 4"/>
          <p:cNvSpPr>
            <a:spLocks noGrp="1"/>
          </p:cNvSpPr>
          <p:nvPr>
            <p:ph type="ftr" idx="2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9" name="PlaceHolder 5"/>
          <p:cNvSpPr>
            <a:spLocks noGrp="1"/>
          </p:cNvSpPr>
          <p:nvPr>
            <p:ph type="sldNum" idx="2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2D2EB2-D507-41EE-9B7F-D96F79FEB8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8" name="PlaceHolder 3"/>
          <p:cNvSpPr>
            <a:spLocks noGrp="1"/>
          </p:cNvSpPr>
          <p:nvPr>
            <p:ph type="dt" idx="24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PlaceHolder 4"/>
          <p:cNvSpPr>
            <a:spLocks noGrp="1"/>
          </p:cNvSpPr>
          <p:nvPr>
            <p:ph type="ftr" idx="2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0" name="PlaceHolder 5"/>
          <p:cNvSpPr>
            <a:spLocks noGrp="1"/>
          </p:cNvSpPr>
          <p:nvPr>
            <p:ph type="sldNum" idx="2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25F7DF-54DD-4876-BEAD-5C5DBD0E75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9" name="PlaceHolder 3"/>
          <p:cNvSpPr>
            <a:spLocks noGrp="1"/>
          </p:cNvSpPr>
          <p:nvPr>
            <p:ph type="dt" idx="24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PlaceHolder 4"/>
          <p:cNvSpPr>
            <a:spLocks noGrp="1"/>
          </p:cNvSpPr>
          <p:nvPr>
            <p:ph type="ftr" idx="24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1" name="PlaceHolder 5"/>
          <p:cNvSpPr>
            <a:spLocks noGrp="1"/>
          </p:cNvSpPr>
          <p:nvPr>
            <p:ph type="sldNum" idx="24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6DBFF5-2871-4527-9E58-F8DDAE1FED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0" name="PlaceHolder 3"/>
          <p:cNvSpPr>
            <a:spLocks noGrp="1"/>
          </p:cNvSpPr>
          <p:nvPr>
            <p:ph type="dt" idx="2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PlaceHolder 4"/>
          <p:cNvSpPr>
            <a:spLocks noGrp="1"/>
          </p:cNvSpPr>
          <p:nvPr>
            <p:ph type="ftr" idx="2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2" name="PlaceHolder 5"/>
          <p:cNvSpPr>
            <a:spLocks noGrp="1"/>
          </p:cNvSpPr>
          <p:nvPr>
            <p:ph type="sldNum" idx="2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2BA8CA-A512-4D5E-90CA-0CDE7AB758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1" name="PlaceHolder 3"/>
          <p:cNvSpPr>
            <a:spLocks noGrp="1"/>
          </p:cNvSpPr>
          <p:nvPr>
            <p:ph type="dt" idx="25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PlaceHolder 4"/>
          <p:cNvSpPr>
            <a:spLocks noGrp="1"/>
          </p:cNvSpPr>
          <p:nvPr>
            <p:ph type="ftr" idx="25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3" name="PlaceHolder 5"/>
          <p:cNvSpPr>
            <a:spLocks noGrp="1"/>
          </p:cNvSpPr>
          <p:nvPr>
            <p:ph type="sldNum" idx="2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17A731-21B7-4959-A1B2-580543D75B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2" name="PlaceHolder 3"/>
          <p:cNvSpPr>
            <a:spLocks noGrp="1"/>
          </p:cNvSpPr>
          <p:nvPr>
            <p:ph type="dt" idx="25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PlaceHolder 4"/>
          <p:cNvSpPr>
            <a:spLocks noGrp="1"/>
          </p:cNvSpPr>
          <p:nvPr>
            <p:ph type="ftr" idx="25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4" name="PlaceHolder 5"/>
          <p:cNvSpPr>
            <a:spLocks noGrp="1"/>
          </p:cNvSpPr>
          <p:nvPr>
            <p:ph type="sldNum" idx="25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9BA491-C111-4049-8010-10B026E868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617F10-729C-48EF-8B06-FADBD780DA9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649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78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49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637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0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google.lv/url?sa=i&amp;rct=j&amp;q=&amp;esrc=s&amp;frm=1&amp;source=images&amp;cd=&amp;cad=rja&amp;uact=8&amp;ved=0CAcQjRw&amp;url=http://www1.basket.lv/lsbl/lsbl/news/3377&amp;ei=PcgjVa6NFMmsswHS_IDYBw&amp;bvm=bv.89947451,d.bGg&amp;psig=AFQjCNEwfTVpJbmHWhTqLq4-9EerOE5Z6Q&amp;ust=142849476037143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0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0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0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PlaceHolder 1"/>
          <p:cNvSpPr>
            <a:spLocks noGrp="1"/>
          </p:cNvSpPr>
          <p:nvPr>
            <p:ph type="title"/>
          </p:nvPr>
        </p:nvSpPr>
        <p:spPr>
          <a:xfrm>
            <a:off x="237600" y="1152360"/>
            <a:ext cx="8726760" cy="24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04920" indent="0" algn="ctr">
              <a:spcBef>
                <a:spcPts val="1199"/>
              </a:spcBef>
              <a:spcAft>
                <a:spcPts val="1800"/>
              </a:spcAft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Century Gothic"/>
                <a:ea typeface="MS PGothic"/>
              </a:rPr>
              <a:t>Eiropas Sociālā fonda projekts</a:t>
            </a:r>
            <a:br>
              <a:rPr sz="2800"/>
            </a:br>
            <a:r>
              <a:rPr b="0" lang="lv-LV" sz="2800" spc="-1" strike="noStrike">
                <a:solidFill>
                  <a:srgbClr val="ffffff"/>
                </a:solidFill>
                <a:latin typeface="Century Gothic"/>
                <a:ea typeface="MS PGothic"/>
              </a:rPr>
              <a:t>«Atbalsts sociālajai uzņēmējdarbībai»</a:t>
            </a:r>
            <a:br>
              <a:rPr sz="2800"/>
            </a:br>
            <a:r>
              <a:rPr b="0" lang="lv-LV" sz="2000" spc="-1" strike="noStrike">
                <a:solidFill>
                  <a:srgbClr val="ffffff"/>
                </a:solidFill>
                <a:latin typeface="Century Gothic"/>
                <a:ea typeface="MS PGothic"/>
              </a:rPr>
              <a:t>vienošanās Nr. 9.1.1.3/15/I/001 </a:t>
            </a:r>
            <a:br>
              <a:rPr sz="3600"/>
            </a:br>
            <a:br>
              <a:rPr sz="3600"/>
            </a:br>
            <a:r>
              <a:rPr b="1" lang="lv-LV" sz="3600" spc="-1" strike="noStrike">
                <a:solidFill>
                  <a:srgbClr val="ffffff"/>
                </a:solidFill>
                <a:latin typeface="Century Gothic"/>
                <a:ea typeface="MS PGothic"/>
              </a:rPr>
              <a:t>Finanšu atbalsta saņemšanas nosacījumi</a:t>
            </a:r>
            <a:br>
              <a:rPr sz="2800"/>
            </a:br>
            <a:br>
              <a:rPr sz="1800"/>
            </a:br>
            <a:endParaRPr b="1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9" name="PlaceHolder 2"/>
          <p:cNvSpPr>
            <a:spLocks noGrp="1"/>
          </p:cNvSpPr>
          <p:nvPr>
            <p:ph type="subTitle"/>
          </p:nvPr>
        </p:nvSpPr>
        <p:spPr>
          <a:xfrm>
            <a:off x="1069560" y="3674880"/>
            <a:ext cx="68929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80" name="Title 1"/>
          <p:cNvSpPr/>
          <p:nvPr/>
        </p:nvSpPr>
        <p:spPr>
          <a:xfrm>
            <a:off x="520560" y="2408400"/>
            <a:ext cx="79930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1" name="Rectangle 3"/>
          <p:cNvSpPr/>
          <p:nvPr/>
        </p:nvSpPr>
        <p:spPr>
          <a:xfrm>
            <a:off x="3009960" y="3772080"/>
            <a:ext cx="570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2" name="Picture 6" descr=""/>
          <p:cNvPicPr/>
          <p:nvPr/>
        </p:nvPicPr>
        <p:blipFill>
          <a:blip r:embed="rId1"/>
          <a:stretch/>
        </p:blipFill>
        <p:spPr>
          <a:xfrm>
            <a:off x="150840" y="5668920"/>
            <a:ext cx="5246640" cy="10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Atbalsta saņemšanas proces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09" name="Picture 4" descr=""/>
          <p:cNvPicPr/>
          <p:nvPr/>
        </p:nvPicPr>
        <p:blipFill>
          <a:blip r:embed="rId1"/>
          <a:stretch/>
        </p:blipFill>
        <p:spPr>
          <a:xfrm>
            <a:off x="1990800" y="2619360"/>
            <a:ext cx="1685880" cy="1571760"/>
          </a:xfrm>
          <a:prstGeom prst="rect">
            <a:avLst/>
          </a:prstGeom>
          <a:ln w="0">
            <a:noFill/>
          </a:ln>
        </p:spPr>
      </p:pic>
      <p:sp>
        <p:nvSpPr>
          <p:cNvPr id="3610" name="TextBox 3"/>
          <p:cNvSpPr/>
          <p:nvPr/>
        </p:nvSpPr>
        <p:spPr>
          <a:xfrm>
            <a:off x="5705640" y="4805280"/>
            <a:ext cx="16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ALT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1" name=""/>
          <p:cNvSpPr txBox="1"/>
          <p:nvPr/>
        </p:nvSpPr>
        <p:spPr>
          <a:xfrm>
            <a:off x="5610240" y="2619360"/>
            <a:ext cx="291456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Labklājības ministrija</a:t>
            </a:r>
            <a:endParaRPr b="0" lang="en-US" sz="24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12" name="Rectangle 5"/>
          <p:cNvSpPr/>
          <p:nvPr/>
        </p:nvSpPr>
        <p:spPr>
          <a:xfrm>
            <a:off x="2181240" y="421956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Uzņēmu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3" name="Picture 10" descr=""/>
          <p:cNvPicPr/>
          <p:nvPr/>
        </p:nvPicPr>
        <p:blipFill>
          <a:blip r:embed="rId2"/>
          <a:stretch/>
        </p:blipFill>
        <p:spPr>
          <a:xfrm>
            <a:off x="4687920" y="1589040"/>
            <a:ext cx="1141560" cy="1116000"/>
          </a:xfrm>
          <a:prstGeom prst="rect">
            <a:avLst/>
          </a:prstGeom>
          <a:ln w="0">
            <a:noFill/>
          </a:ln>
        </p:spPr>
      </p:pic>
      <p:pic>
        <p:nvPicPr>
          <p:cNvPr id="3614" name="Picture 11" descr=""/>
          <p:cNvPicPr/>
          <p:nvPr/>
        </p:nvPicPr>
        <p:blipFill>
          <a:blip r:embed="rId3"/>
          <a:stretch/>
        </p:blipFill>
        <p:spPr>
          <a:xfrm>
            <a:off x="4687920" y="3973680"/>
            <a:ext cx="1101600" cy="1062000"/>
          </a:xfrm>
          <a:prstGeom prst="rect">
            <a:avLst/>
          </a:prstGeom>
          <a:ln w="0">
            <a:noFill/>
          </a:ln>
        </p:spPr>
      </p:pic>
      <p:cxnSp>
        <p:nvCxnSpPr>
          <p:cNvPr id="3615" name="Straight Arrow Connector 9"/>
          <p:cNvCxnSpPr/>
          <p:nvPr/>
        </p:nvCxnSpPr>
        <p:spPr>
          <a:xfrm flipV="1">
            <a:off x="3743280" y="2418840"/>
            <a:ext cx="838800" cy="5292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16" name="Straight Arrow Connector 16"/>
          <p:cNvCxnSpPr/>
          <p:nvPr/>
        </p:nvCxnSpPr>
        <p:spPr>
          <a:xfrm>
            <a:off x="3676680" y="3886200"/>
            <a:ext cx="867600" cy="5342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17" name="Straight Arrow Connector 22"/>
          <p:cNvCxnSpPr/>
          <p:nvPr/>
        </p:nvCxnSpPr>
        <p:spPr>
          <a:xfrm>
            <a:off x="5238360" y="2847960"/>
            <a:ext cx="1080" cy="9626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Atbalsta saņemšanas soļ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19" name=""/>
          <p:cNvSpPr txBox="1"/>
          <p:nvPr/>
        </p:nvSpPr>
        <p:spPr>
          <a:xfrm>
            <a:off x="752040" y="1343160"/>
            <a:ext cx="74487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retendent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reģistrējas LM Pasākuma dalībnieku reģistrā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iesakās ALTUM granta finansējuma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iesniedzot pieteikuma dokumentus ALTUM reģionālajā centrā vai konsultāciju birojā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LTU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izvērtē iesniegtos dokumentu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izvērtē biznesa plānu, atbilstību komercdarbības atbalsta nosacījumiem un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ieņem  lēmumu par granta finansējuma  piešķiršan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LTU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un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noslēdz Granta līgum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biznesa projekta īstenošana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20" name="Down Arrow 4"/>
          <p:cNvSpPr/>
          <p:nvPr/>
        </p:nvSpPr>
        <p:spPr>
          <a:xfrm>
            <a:off x="4305240" y="2028960"/>
            <a:ext cx="466920" cy="209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1" name="Down Arrow 8"/>
          <p:cNvSpPr/>
          <p:nvPr/>
        </p:nvSpPr>
        <p:spPr>
          <a:xfrm>
            <a:off x="4305240" y="3495600"/>
            <a:ext cx="466920" cy="209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2" name="Down Arrow 9"/>
          <p:cNvSpPr/>
          <p:nvPr/>
        </p:nvSpPr>
        <p:spPr>
          <a:xfrm>
            <a:off x="4305240" y="5162400"/>
            <a:ext cx="466920" cy="209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TextBox 1"/>
          <p:cNvSpPr/>
          <p:nvPr/>
        </p:nvSpPr>
        <p:spPr>
          <a:xfrm>
            <a:off x="324000" y="119880"/>
            <a:ext cx="79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800" spc="-1" strike="noStrike">
                <a:solidFill>
                  <a:srgbClr val="ffffff"/>
                </a:solidFill>
                <a:latin typeface="Century Gothic"/>
              </a:rPr>
              <a:t>Konsultācijas un apkalpošana visā Latvij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4" name="Picture 2" descr=""/>
          <p:cNvPicPr/>
          <p:nvPr/>
        </p:nvPicPr>
        <p:blipFill>
          <a:blip r:embed="rId2"/>
          <a:stretch/>
        </p:blipFill>
        <p:spPr>
          <a:xfrm>
            <a:off x="1422360" y="1125360"/>
            <a:ext cx="662292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c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TextBox 1"/>
          <p:cNvSpPr/>
          <p:nvPr/>
        </p:nvSpPr>
        <p:spPr>
          <a:xfrm>
            <a:off x="982800" y="1773360"/>
            <a:ext cx="74372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Century Gothic"/>
              </a:rPr>
              <a:t>Granta pieteikuma dokumentu izvērtēšan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Century Gothic"/>
              </a:rPr>
              <a:t>Grantu izsniegša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Ilona Beizītere, ALTUM Kredītu un garantiju 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       departamenta analītiķ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Iesniedzamie dokumenti ALTUM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7" name=""/>
          <p:cNvSpPr txBox="1"/>
          <p:nvPr/>
        </p:nvSpPr>
        <p:spPr>
          <a:xfrm>
            <a:off x="714240" y="1304640"/>
            <a:ext cx="760104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Granta pieteikums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Biznesa plān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jāapraksta esošā un plānotā uzņēmējdarbība, iecerētais biznesa projekts, jāpamato nepieciešamais grants, tā izlietojums un apmēr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Naudas plūsma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parāda biznesa projekta ieviešanu finansiālā izteiksmē vismaz par 2-4 gadiem un demonstrē finansiālos rezultātus gan projekta ieviešanas laikā, gan pēc tā beigā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Sociālās ietekmes izvērtējum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biznesa projekta līmenī (par šo </a:t>
            </a: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tzinumu sniedz LM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Citi dokumenti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atbilstoši projekta, uzņēmuma veidam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u veidlapas būs pieejamas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Biznesa plāns – plānotā projekta aprakst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9" name=""/>
          <p:cNvSpPr txBox="1"/>
          <p:nvPr/>
        </p:nvSpPr>
        <p:spPr>
          <a:xfrm>
            <a:off x="714240" y="1305000"/>
            <a:ext cx="7601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1.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Vispārīgā informācija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2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Uzņēmuma apraksts un mērķ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3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dukta / pakalpojuma aprakst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4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Tirgus un konkurentu aprakst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5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dukta / pakalpojuma realizācija un mārketing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6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jekta realizācijas apraksts, apjoms un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nepieciešamā finansējuma pamatojum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7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jekta riski un problēma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8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Cita būtiska informācija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a veidlapa būs pieejama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Naudas plūsma – projekta gaita finansiālā izteiksmē 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1" name=""/>
          <p:cNvSpPr txBox="1"/>
          <p:nvPr/>
        </p:nvSpPr>
        <p:spPr>
          <a:xfrm>
            <a:off x="714240" y="1305000"/>
            <a:ext cx="7601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1.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u veidlapas būs pieejamas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32" name="Picture 1" descr=""/>
          <p:cNvPicPr/>
          <p:nvPr/>
        </p:nvPicPr>
        <p:blipFill>
          <a:blip r:embed="rId2"/>
          <a:stretch/>
        </p:blipFill>
        <p:spPr>
          <a:xfrm>
            <a:off x="270000" y="615960"/>
            <a:ext cx="8767800" cy="61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saņēmēja/ projekta dzīvotspējas izvērtējum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4" name=""/>
          <p:cNvSpPr txBox="1"/>
          <p:nvPr/>
        </p:nvSpPr>
        <p:spPr>
          <a:xfrm>
            <a:off x="301680" y="1257480"/>
            <a:ext cx="829944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Biznesa dzīvotspēja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izvērtē noteiktus finanšu analīzes kritērijus, pamatojoties uz klienta iesniegto naudas plūsmu, biznesa plānā norādīto informāciju par projekta realizācij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Finanšu izvērtējums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gada pārskatu vai ienākumu deklarāciju izvērtēšan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vai nav nonācis grūtībās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VID nodokļu nomaksa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Uzņēmuma un īpašnieku, dalībnieku kredītvēstur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Uzsācēju gadījumā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Īpašnieku, dalībnieku kredītvēstur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epriekšējā pieredz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Līdzdalība projekt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spēja ieguldīt savus līdzekļus vai piesaistīt līdzfinansējumu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privātpersonas, ārējs finansējums, bankas aizdevums u.tml.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Citas pārbaude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-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saistītās personas, politiski nozīmīgās personas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Granta izsniegšanas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6" name=""/>
          <p:cNvSpPr txBox="1"/>
          <p:nvPr/>
        </p:nvSpPr>
        <p:spPr>
          <a:xfrm>
            <a:off x="394920" y="1247400"/>
            <a:ext cx="8177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līdzekļus izsniedz tikai mērķiem, kas norādīti Granta līgum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izmaksas saskaņā ar Granta līguma nosacījumie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Granta izsniegšanas veidi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1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Rēķinu apmaksa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līdzekļu pārskaitījumi uz preču piegādātāja/ pakalpojumu sniedzēja kontu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iesniedzamie dokumenti: </a:t>
            </a:r>
            <a:r>
              <a:rPr b="1" i="1" lang="lv-LV" sz="1800" spc="-1" strike="noStrike">
                <a:solidFill>
                  <a:srgbClr val="00467f"/>
                </a:solidFill>
                <a:latin typeface="Century Gothic"/>
              </a:rPr>
              <a:t>rēķini, līgumi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, ja apmaksā pakalpojumu, pērk ražošanas iekārtu, preci gatavo pēc pasūtījum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2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eikto izmaksu kompensācija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ret pamatojošiem rēķiniem, līgumiem,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papildu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: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maksājumu uzdevum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konta izraksti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3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Granta avanss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Apgrozāmiem līdzekļ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– nelieliem maksājumiem, dokumenti jāiesniedz pēc izmaksām: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tskaite par izlietojumu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pievienojot rēķinus, līgumus, maksājumu uzdevumus, kontu izrakstus, čekus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Darba algā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lgu sarakst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darba līgumi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ākamiem maksājumiem: maksājumu uzdevumi, kontu izraksti u.tml.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Granta nosacījumu uzraudzība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8" name=""/>
          <p:cNvSpPr txBox="1"/>
          <p:nvPr/>
        </p:nvSpPr>
        <p:spPr>
          <a:xfrm>
            <a:off x="542880" y="1419120"/>
            <a:ext cx="78105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LTUM nodrošina atbalstītā biznesa projekta uzraudzību projekta īstenošanas periodā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Biznesa projektu uzskata par realizētu, ja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līdzekļi izlietoti atbilstoši Granta līgumā norādītajam mērķi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un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uzņēmums darbojas atbilstoši biznesa plānā noteiktaja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izlietojuma atskaite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pēc biznesa projekta apguve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jānorāda projekta faktiskās kopējās izmaksas, t.sk., savs līdzfinansējums, izmaksu sadalījums pa posteņiem, sasniegtie saimnieciskie un sociālās ietekmes rādītāj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Neatbilstība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ja konstatē Granta līguma nosacījumu īstenošanas neatbilstības, ALTUM nepieciešamības gadījumā prasa skaidrojumus vai situācijas labošanu, lemj par izmaksātā granta daļēju vai pilnīgu atmaksas pieprasījum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3" name="Rectangle 11"/>
          <p:cNvSpPr/>
          <p:nvPr/>
        </p:nvSpPr>
        <p:spPr>
          <a:xfrm>
            <a:off x="762120" y="4133880"/>
            <a:ext cx="733716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Aizdev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Kredītu garantij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Riska kapitā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Nefinanšu: konsultācijas, mentor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1f497d"/>
                </a:solidFill>
                <a:latin typeface="Century Gothic"/>
                <a:ea typeface="Times New Roman"/>
              </a:rPr>
              <a:t>ALTUM atbalsta </a:t>
            </a:r>
            <a:r>
              <a:rPr b="1" lang="lv-LV" sz="2000" spc="-1" strike="noStrike" u="sng">
                <a:solidFill>
                  <a:srgbClr val="1f497d"/>
                </a:solidFill>
                <a:uFillTx/>
                <a:latin typeface="Century Gothic"/>
                <a:ea typeface="Times New Roman"/>
              </a:rPr>
              <a:t>ekonomiski pamatotus un dzīvotspējīgus biznesa projektus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4" name="TextBox 1"/>
          <p:cNvSpPr/>
          <p:nvPr/>
        </p:nvSpPr>
        <p:spPr>
          <a:xfrm>
            <a:off x="571680" y="149400"/>
            <a:ext cx="28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Par ALT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5" name="Rectangle 43"/>
          <p:cNvSpPr/>
          <p:nvPr/>
        </p:nvSpPr>
        <p:spPr>
          <a:xfrm>
            <a:off x="4670280" y="2362320"/>
            <a:ext cx="2851200" cy="676080"/>
          </a:xfrm>
          <a:prstGeom prst="rect">
            <a:avLst/>
          </a:prstGeom>
          <a:solidFill>
            <a:srgbClr val="0046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MV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6" name="Rectangle 44"/>
          <p:cNvSpPr/>
          <p:nvPr/>
        </p:nvSpPr>
        <p:spPr>
          <a:xfrm>
            <a:off x="1371600" y="3146400"/>
            <a:ext cx="3054240" cy="663480"/>
          </a:xfrm>
          <a:prstGeom prst="rect">
            <a:avLst/>
          </a:prstGeom>
          <a:solidFill>
            <a:srgbClr val="ca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entury Gothic"/>
                <a:ea typeface="Times New Roman"/>
              </a:rPr>
              <a:t>Lauksaimniek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7" name="Rectangle 45"/>
          <p:cNvSpPr/>
          <p:nvPr/>
        </p:nvSpPr>
        <p:spPr>
          <a:xfrm>
            <a:off x="4670280" y="3146400"/>
            <a:ext cx="2851200" cy="663480"/>
          </a:xfrm>
          <a:prstGeom prst="rect">
            <a:avLst/>
          </a:prstGeom>
          <a:solidFill>
            <a:srgbClr val="6bc2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Iedzīvotāj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8" name="Rectangle 46"/>
          <p:cNvSpPr/>
          <p:nvPr/>
        </p:nvSpPr>
        <p:spPr>
          <a:xfrm>
            <a:off x="1371600" y="2362320"/>
            <a:ext cx="3054240" cy="676080"/>
          </a:xfrm>
          <a:prstGeom prst="rect">
            <a:avLst/>
          </a:prstGeom>
          <a:solidFill>
            <a:srgbClr val="00ac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Biznes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uzsācēj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9" name="Taisnstūris 1"/>
          <p:cNvSpPr/>
          <p:nvPr/>
        </p:nvSpPr>
        <p:spPr>
          <a:xfrm>
            <a:off x="466560" y="136224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alstij piederoša attīstības finanšu institūcija, kas papildina privātā finanšu tirgus piedāvājum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9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4200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ALTUM un sociālie uzņēmumi –</a:t>
            </a:r>
            <a:r>
              <a:rPr b="0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 ir piemēri!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0" name="Rectangle 2"/>
          <p:cNvSpPr/>
          <p:nvPr/>
        </p:nvSpPr>
        <p:spPr>
          <a:xfrm>
            <a:off x="314280" y="1333440"/>
            <a:ext cx="8501040" cy="47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Mīksto rotaļlietu ražošan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Liepāj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Uzņēmums nodarbina cilvēkus n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Liepājas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neredzīgo biedrīb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2012.g. -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Starta programma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izdevum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ekārtām rotaļlietu ražošanai, telp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prīkojumam, apgrozāmiem līdzekļi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Specializētā transporta pakalpojum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cilvēkiem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r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īpašām vajadzībā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(kustību, redzes traucējumi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ēc operācijām utml.)- vizītes pie ārstiem, atpūta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zglītības pasākumu apmeklējum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2 piemēr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(Rīgā, Code)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Starta programma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Šve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mikrokreditēšanas programma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aizdevumi speciāl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transporta iegādei (2012. un 2013.g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1" name="Picture 2" descr="C:\Users\andrejs.buharins\Documents\78748.jpg"/>
          <p:cNvPicPr/>
          <p:nvPr/>
        </p:nvPicPr>
        <p:blipFill>
          <a:blip r:embed="rId1"/>
          <a:stretch/>
        </p:blipFill>
        <p:spPr>
          <a:xfrm>
            <a:off x="5429160" y="1400040"/>
            <a:ext cx="2809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2" name="Picture 2" descr="C:\Users\andrejs.buharins\AppData\Local\Microsoft\Windows\INetCache\Content.Outlook\CWR7DW9Z\186 (2) (6).jpg"/>
          <p:cNvPicPr/>
          <p:nvPr/>
        </p:nvPicPr>
        <p:blipFill>
          <a:blip r:embed="rId2"/>
          <a:stretch/>
        </p:blipFill>
        <p:spPr>
          <a:xfrm>
            <a:off x="399960" y="3781440"/>
            <a:ext cx="209556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3" name="TextBox 1"/>
          <p:cNvSpPr/>
          <p:nvPr/>
        </p:nvSpPr>
        <p:spPr>
          <a:xfrm>
            <a:off x="895320" y="895320"/>
            <a:ext cx="72057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36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Century Gothic"/>
              </a:rPr>
              <a:t>andrejs.buharins@altum.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Century Gothic"/>
              </a:rPr>
              <a:t>Ilona.beizitere@altum.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Century Gothic"/>
              </a:rPr>
              <a:t>www.altum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4" name="Picture 2" descr=""/>
          <p:cNvPicPr/>
          <p:nvPr/>
        </p:nvPicPr>
        <p:blipFill>
          <a:blip r:embed="rId1"/>
          <a:stretch/>
        </p:blipFill>
        <p:spPr>
          <a:xfrm>
            <a:off x="3220920" y="38606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3645" name="Picture 3" descr=""/>
          <p:cNvPicPr/>
          <p:nvPr/>
        </p:nvPicPr>
        <p:blipFill>
          <a:blip r:embed="rId2"/>
          <a:stretch/>
        </p:blipFill>
        <p:spPr>
          <a:xfrm>
            <a:off x="4221000" y="3860640"/>
            <a:ext cx="578160" cy="579600"/>
          </a:xfrm>
          <a:prstGeom prst="rect">
            <a:avLst/>
          </a:prstGeom>
          <a:ln w="0">
            <a:noFill/>
          </a:ln>
        </p:spPr>
      </p:pic>
      <p:pic>
        <p:nvPicPr>
          <p:cNvPr id="3646" name="Picture 4" descr=""/>
          <p:cNvPicPr/>
          <p:nvPr/>
        </p:nvPicPr>
        <p:blipFill>
          <a:blip r:embed="rId3"/>
          <a:stretch/>
        </p:blipFill>
        <p:spPr>
          <a:xfrm>
            <a:off x="5219640" y="3860640"/>
            <a:ext cx="579600" cy="5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0" name="PlaceHolder 1"/>
          <p:cNvSpPr>
            <a:spLocks noGrp="1"/>
          </p:cNvSpPr>
          <p:nvPr>
            <p:ph type="title"/>
          </p:nvPr>
        </p:nvSpPr>
        <p:spPr>
          <a:xfrm>
            <a:off x="447840" y="115560"/>
            <a:ext cx="85881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Finanšu atbalsts sociāliem uzņēmumiem </a:t>
            </a:r>
            <a:r>
              <a:rPr b="0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(2017 – 2022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91" name="Title 2"/>
          <p:cNvSpPr/>
          <p:nvPr/>
        </p:nvSpPr>
        <p:spPr>
          <a:xfrm>
            <a:off x="558720" y="1343160"/>
            <a:ext cx="781380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12 milj</a:t>
            </a:r>
            <a:r>
              <a:rPr b="0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. </a:t>
            </a: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EUR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- kopējais finansējums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grant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programmas ietvar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200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– plānotais atbalstīto sociālo uzņēmumu ska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             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(+ 20 – uzsācēji/ LM ideju konkursa uzvarētāj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ALTUM – LM sadarbības partneri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grantu administrēšan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grantu pieteikumu/ biznesa plānu pieņemšana, izvērtēšana,  atbalsta piešķirša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izsniegtā atbalsta uzraudzība, kontrole, atbalsta saņēmēju datu iegūšana un iesniegšana L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2017.g. maijs/ jūnij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–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provizoriskais lai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 finanšu atbalsta uzsākšana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(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priekšdarb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: MK noteikumu Nr.467 grozījumu apstiprināšana/ LM un ALTUM iekšējās procedūras/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LM reģistra darbības uzsākšan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Rectangle 1"/>
          <p:cNvSpPr/>
          <p:nvPr/>
        </p:nvSpPr>
        <p:spPr>
          <a:xfrm>
            <a:off x="426240" y="11592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pretenden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3" name="Taisnstūris 2"/>
          <p:cNvSpPr/>
          <p:nvPr/>
        </p:nvSpPr>
        <p:spPr>
          <a:xfrm>
            <a:off x="895320" y="1380960"/>
            <a:ext cx="7265880" cy="49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Uz atbalstu var pretendēt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Century Gothic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i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biedrības, nodibinājumi un komersanti (SIA, AS), kuri atbilst noteiktajiem sociālo uzņēmumu kritērijiem un ir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reģistrēti LM Pasākumu dalībnieku reģistrā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Century Gothic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Sociālās uzņēmējdarbības uzsācēji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fiziskas personas, kuras plāno uzsākt sociālo uzņēmējdarbību, ir piedalījušās/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uzvarējušas LM rīkotā ideju konkurs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u atbalsts paredzēts dzīvotspējīgu un ilgtspējīgu sociālo uzņēmumu biznesa projektu īstenošana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(</a:t>
            </a:r>
            <a:r>
              <a:rPr b="1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s nav pabalsts!</a:t>
            </a: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4" name="Rectangle 1"/>
          <p:cNvSpPr/>
          <p:nvPr/>
        </p:nvSpPr>
        <p:spPr>
          <a:xfrm>
            <a:off x="449640" y="115920"/>
            <a:ext cx="35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āmās izmak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5" name="Taisnstūris 2"/>
          <p:cNvSpPr/>
          <p:nvPr/>
        </p:nvSpPr>
        <p:spPr>
          <a:xfrm>
            <a:off x="914400" y="1751040"/>
            <a:ext cx="724680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Ilgtermiņa ieguldīj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av ierobežojumu uz ieguldījumu veidiem, var finansēt arī nemateriālos ieguldījumu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pgrozāmie līdzekļ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pmācību/ konsultāciju izdev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Darba alg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6" name="Picture 5" descr="http://www1.basket.lv/images/u/7b/survey_checklist_r_r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4960" y="4613400"/>
            <a:ext cx="1143000" cy="98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7" name="Rectangle 1"/>
          <p:cNvSpPr/>
          <p:nvPr/>
        </p:nvSpPr>
        <p:spPr>
          <a:xfrm>
            <a:off x="437760" y="115920"/>
            <a:ext cx="33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Nozaru ierobežoju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8" name="Taisnstūris 2"/>
          <p:cNvSpPr/>
          <p:nvPr/>
        </p:nvSpPr>
        <p:spPr>
          <a:xfrm>
            <a:off x="676440" y="1562040"/>
            <a:ext cx="729612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Grantu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tbalstu nepiešķir šādās nozarēs vai jomā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Sistemātisku darījumu veikšana ar vērtspapīriem, nekustamiem īpašumiem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izņemot telpu iznomāšanu/ izīrēšan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Finanšu un apdrošināšanas darbīb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Sprāgstvielu, ieroču, munīcijas ražošana/ tirdzniec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lkoholisko dzērienu, tabakas izstrādājumu ražošana/ tirdzniec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zartspēles, derīb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Citas jomas, kas apdraud sabiedrības drošību un veselīb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9" name="Attēls 3" descr=""/>
          <p:cNvPicPr/>
          <p:nvPr/>
        </p:nvPicPr>
        <p:blipFill>
          <a:blip r:embed="rId2"/>
          <a:stretch/>
        </p:blipFill>
        <p:spPr>
          <a:xfrm>
            <a:off x="7686720" y="1247760"/>
            <a:ext cx="1114560" cy="91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Rectangle 1"/>
          <p:cNvSpPr/>
          <p:nvPr/>
        </p:nvSpPr>
        <p:spPr>
          <a:xfrm>
            <a:off x="464400" y="11592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apmē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1" name="Taisnstūris 2"/>
          <p:cNvSpPr/>
          <p:nvPr/>
        </p:nvSpPr>
        <p:spPr>
          <a:xfrm>
            <a:off x="590400" y="1238400"/>
            <a:ext cx="7867800" cy="50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Grantu apmērs no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5 tūkst. EUR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līdz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200 tūkst. 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tbalstu nosaka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tbilstoši uzņēmuma saimnieciskās darbības apmēram un darbības pieredze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prēķinātais atbalst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nepārsniedz 50% no pēdējo 3 gadu vidējā apgrozījum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va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pēdējo 3 gadu vidējā bilances vērtība x 1.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Atbalsta aprēķinam izvēlas lielāko aprēķināto vērtīb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20 tūkst. EUR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- maksimālais atbalsts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jaundibināt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Pasākuma dalībniekiem/ uzsācējie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50 tūkst. EUR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– maksimālais atbalsts Pasākuma dalībniekiem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ar darbības laiku līdz 3 gad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apildus grantam biznesa projekta īstenošanā atbalsta saņēmējam jāpiesaista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10% līdzfinansējum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savi resursi/ ārējs finansējums, kas nav komercdarbības atbalst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Darba algas izmaksu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3" name=""/>
          <p:cNvSpPr txBox="1"/>
          <p:nvPr/>
        </p:nvSpPr>
        <p:spPr>
          <a:xfrm>
            <a:off x="395280" y="1456920"/>
            <a:ext cx="804528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464400" indent="-325440">
              <a:spcBef>
                <a:spcPts val="4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Darba integrācijas uzņēmumiem (DIU)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5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100%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no nodarbināto atlīdzības apmēr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epārsniedzot vidējo darba samaksu profesijā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99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uz visu biznesa projekta īstenošanas period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(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5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lāno nodarbināt vismaz 2 darbinieku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to skaits nav mazāks par: 1) 40% no ikgadējā vidējā darbinieku skaita, ja nodarbinās nelabvēlīgā situācijā esošus bezdarbniekus; 50% - ja nodarbinās personas ar invaliditāti, garīga rakstura traucējumiem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asākuma dalībniekiem, kuri nav DIU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80%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no nodarbināto atlīdzības apmēr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epārsniedzot vidējo darba samaksu profesijā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uz 6 mēnešiem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Informāciju par vidējo darba samaksu profesijā ALTUM un Pasākuma dalībnieki var iegūt publiskās datu bāzē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04" name="Attēls 1" descr=""/>
          <p:cNvPicPr/>
          <p:nvPr/>
        </p:nvPicPr>
        <p:blipFill>
          <a:blip r:embed="rId1"/>
          <a:stretch/>
        </p:blipFill>
        <p:spPr>
          <a:xfrm>
            <a:off x="7515360" y="1123920"/>
            <a:ext cx="1333440" cy="8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Citi būtiski atbalsta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6" name=""/>
          <p:cNvSpPr txBox="1"/>
          <p:nvPr/>
        </p:nvSpPr>
        <p:spPr>
          <a:xfrm>
            <a:off x="609480" y="1638360"/>
            <a:ext cx="763920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4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Biznesa projekta īstenošanas periods –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tbalsta saņēmējs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ar saņemt finanšu atbalstu vairāk nekā vienu reizi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ja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tbalstītais projekts ir sekmīgi realizēts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, ko apliecina par iepriekšējo biznesa projektu iesniegta atskaite, gada pārskats par pilnu gadu pēc projekta īstenošanas beigā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ir izpildīti visi iepriekšējā finanšu atbalsta līguma nosacījum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07" name="Attēls 1" descr=""/>
          <p:cNvPicPr/>
          <p:nvPr/>
        </p:nvPicPr>
        <p:blipFill>
          <a:blip r:embed="rId1"/>
          <a:stretch/>
        </p:blipFill>
        <p:spPr>
          <a:xfrm>
            <a:off x="6105600" y="4664160"/>
            <a:ext cx="2143080" cy="1427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8T07:08:15Z</dcterms:created>
  <dc:creator>Aira Leite</dc:creator>
  <dc:description/>
  <dc:language>en-US</dc:language>
  <cp:lastModifiedBy>Sistēmas Windows lietotājs</cp:lastModifiedBy>
  <cp:lastPrinted>2017-01-31T07:32:04Z</cp:lastPrinted>
  <dcterms:modified xsi:type="dcterms:W3CDTF">2017-05-03T08:06:16Z</dcterms:modified>
  <cp:revision>253</cp:revision>
  <dc:subject/>
  <dc:title>PowerPoint Presentation</dc:title>
</cp:coreProperties>
</file>