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5A28-CC6A-4196-9FE6-80C3F2643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7BE9-DC9D-4935-9AB1-9F572197F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128D-11AD-40EC-B03A-3FD224E23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81BC-A3B0-48B0-9AF9-6C8946976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6E4D-727C-450B-996E-D9FBC001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928-90EE-4604-A844-AD7E49390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AABD-DA3A-47D7-9460-0C496A744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C48C-F422-4260-9BB9-AE61F422E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D6AE-4A94-4765-8F0C-F47EC176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3411-E34B-48E9-B042-69E1F1E3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6C58-4091-4B70-9C54-A835B086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78B0-B047-4F67-A57B-9915A3B8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DAEA-E3BD-4A64-95F3-8A59A643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F598-340A-4785-839D-9244B495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7683-FDF7-44D5-8BE5-8245AB41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36A-1499-4A51-ADA2-6906B63E7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6CE5-1C82-4753-92C9-68AC46C26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m.likumi.lv/doc.php?id=174327#piel4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8920" y="1941120"/>
            <a:ext cx="721836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Par Ministru kabineta  21.04.2008. noteikumos Nr. 288 “Sociālo pakalpojumu un sociālās palīdzības saņemšanas kārtība” noteikto aprūpes līmeņu noteikš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1568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ttēls 5" descr=""/>
          <p:cNvPicPr/>
          <p:nvPr/>
        </p:nvPicPr>
        <p:blipFill>
          <a:blip r:embed="rId2"/>
          <a:stretch/>
        </p:blipFill>
        <p:spPr>
          <a:xfrm>
            <a:off x="135000" y="125280"/>
            <a:ext cx="3284640" cy="1546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-3240" y="208080"/>
            <a:ext cx="9144000" cy="1568160"/>
          </a:xfrm>
          <a:prstGeom prst="rect">
            <a:avLst/>
          </a:prstGeom>
          <a:ln w="0">
            <a:noFill/>
          </a:ln>
        </p:spPr>
      </p:pic>
      <p:pic>
        <p:nvPicPr>
          <p:cNvPr id="91" name="Attēls 1" descr=""/>
          <p:cNvPicPr/>
          <p:nvPr/>
        </p:nvPicPr>
        <p:blipFill>
          <a:blip r:embed="rId2"/>
          <a:stretch/>
        </p:blipFill>
        <p:spPr>
          <a:xfrm>
            <a:off x="4687920" y="1525680"/>
            <a:ext cx="4648320" cy="3286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8"/>
          <p:cNvSpPr/>
          <p:nvPr/>
        </p:nvSpPr>
        <p:spPr>
          <a:xfrm>
            <a:off x="2124000" y="689040"/>
            <a:ext cx="626436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 “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Latvijas Samariešu apvienīb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        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un  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SIA «e-aprūpe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395280" y="2951280"/>
            <a:ext cx="453708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4000" spc="-1" strike="noStrike">
                <a:solidFill>
                  <a:srgbClr val="a20000"/>
                </a:solidFill>
                <a:latin typeface="Century Schoolbook"/>
              </a:rPr>
              <a:t>www.e-aprūpe.lv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Elektroniskā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aprūpes plānošana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800" spc="-1" strike="noStrike">
                <a:solidFill>
                  <a:srgbClr val="a20000"/>
                </a:solidFill>
                <a:latin typeface="Century Schoolbook"/>
              </a:rPr>
              <a:t>sistēma jeb «ApSis</a:t>
            </a:r>
            <a:r>
              <a:rPr b="1" i="1" lang="lv-LV" sz="4000" spc="-1" strike="noStrike">
                <a:solidFill>
                  <a:srgbClr val="a20000"/>
                </a:solidFill>
                <a:latin typeface="Century Schoolbook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4356000" y="6093000"/>
            <a:ext cx="461016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4687920" y="5956200"/>
            <a:ext cx="439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andris.berzins@samariesi.l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info@e-aprupe.lv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Metodikas pamat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6000" y="133488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Latvijas pašvaldību un pakalpojumu sniegšanas prakse un vajadzī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Pasaules pieredze (pētījumi un atziņ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atura vietturis 2"/>
          <p:cNvSpPr/>
          <p:nvPr/>
        </p:nvSpPr>
        <p:spPr>
          <a:xfrm>
            <a:off x="250920" y="3357720"/>
            <a:ext cx="822960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u vajadzība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- universāls, moderns, ērti lietojams, viegli saprotams, precīzs, ātrs, savietojams vērtēšanas instruments, kas fiksē pašaprūpes deficītus un tūlītēji “iztulko” šos deficītus nepieciešamajās darbībās (pakalpojumos un aprūpes plānā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Century Schoolbook"/>
              </a:rPr>
              <a:t>MK 288 – 4.pielikums </a:t>
            </a:r>
            <a:r>
              <a:rPr b="1" lang="lv-LV" sz="2400" spc="-1" strike="noStrike">
                <a:solidFill>
                  <a:srgbClr val="000000"/>
                </a:solidFill>
                <a:latin typeface="Century Schoolbook"/>
              </a:rPr>
              <a:t>(specifi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24000" y="144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ever līdzšinēji praksi un visu MK noteikumu 288 (līdz grozījumiem) satu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kcents uz pašaprūpes spējā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ersona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ašaprūpe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, neatkarības un patstāvīgās dzīve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pēju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 novērtēšanas vispārējie kritēr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amatvajadzības; Mobilitāte un Personiskā higiēna veido 70% no vērtējuma vērt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oduļu pieeja (6 moduļi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2 pakāpju vērtības noteikšana (Funkcionalitātes vērtība un moduļa vērtīb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Var lietot gan papīrā, gan elektronisk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39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Funkcionalitātes vērtē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50920" y="1382400"/>
            <a:ext cx="888048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FACE (Functional Assessment of Care Environments) 5 pakāju skal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Papīra versijā – universālas pazīmes e-versijā ar skaidrojošu raksturojum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Neatkarīgs – 4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pilnībā veic patstāvīgi, spējas/funkcionalitāte nav traucē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pilnībā var izdarīt pats un nekāda palīdzība nav nepiecieš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Gandrīz neatkarīgs – 3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mēģina un lielākoties spēj veikt patstāvīgi, spējas/funkcionalitāte ir traucēta atsevišķu darbību veikšanai</a:t>
            </a:r>
            <a:r>
              <a:rPr b="0" lang="lv-LV" sz="19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kopumā tiek galā patstāvīgi, tomēr ir atsevišķas darbības, ko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omēr patstāvīgi vairs nevar vai, iespējams, nevar kādos atsevišķo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brīžos (slimību saasinājum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50560" y="189000"/>
            <a:ext cx="85690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Daļēji atkarīgs – 2 punkt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ir traucēta un bez palīdzības nespēj veikt saistītās darb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Viens pats vairs galā netiek, tomēr spējas nav pilnībā zuduša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un darbības, kas ir nepieciešamas, ir funkcionalitātei atbalstošas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un uzturoš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Būtiski atkarīgs – 1 punkt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ir traucēta, nepieciešami pakalpojumi funkcijas kompensēš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T.i. Bez citas personas pats galā vairs netiek. Funkcionalitāte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iemīt tikai atsevišķos elementos – un nepieciešamas darbības, 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kas kompensē konkrētās trūkstošās spēj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Atkarīgs – 0 punktu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 – nespēj veikt patstāvīgi, spējas/funkcionalitāte nepiemīt, pilnībā vai kādu reāli iespējamu apstākļu dēļ persona var nonākt situācijās, kad funkcionalitāte nav, un šī situācija var apdraudēt personas dzīvību (ir iespēja palikt bezpalīdzīgā stāvoklī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e-aprū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37600" y="1109160"/>
            <a:ext cx="858204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Unikāls Latvijā veidots e-risinājums, kas vienotā sistēmā uzturēs visu sociālo pakalpojumu sniegšanas kompleksu - </a:t>
            </a:r>
            <a:r>
              <a:rPr b="0" lang="lv-LV" sz="2200" spc="-1" strike="noStrike" u="sng">
                <a:solidFill>
                  <a:srgbClr val="c00000"/>
                </a:solidFill>
                <a:uFillTx/>
                <a:latin typeface="Century Schoolbook"/>
              </a:rPr>
              <a:t>vajadzību izvērtēšanu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lv-LV" sz="2200" spc="-1" strike="noStrike" u="sng">
                <a:solidFill>
                  <a:srgbClr val="0070c0"/>
                </a:solidFill>
                <a:uFillTx/>
                <a:latin typeface="Century Schoolbook"/>
              </a:rPr>
              <a:t>pakalpojumu plānošanu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; </a:t>
            </a:r>
            <a:r>
              <a:rPr b="0" lang="lv-LV" sz="2200" spc="-1" strike="noStrike" u="sng">
                <a:solidFill>
                  <a:srgbClr val="00b050"/>
                </a:solidFill>
                <a:uFillTx/>
                <a:latin typeface="Century Schoolbook"/>
              </a:rPr>
              <a:t>pakalpojumu sniegšanu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;</a:t>
            </a:r>
            <a:r>
              <a:rPr b="0" lang="lv-LV" sz="2200" spc="-1" strike="noStrike" u="sng">
                <a:solidFill>
                  <a:srgbClr val="00b050"/>
                </a:solidFill>
                <a:uFillTx/>
                <a:latin typeface="Century Schoolbook"/>
              </a:rPr>
              <a:t> </a:t>
            </a:r>
            <a:r>
              <a:rPr b="0" lang="lv-LV" sz="2200" spc="-1" strike="noStrike" u="sng">
                <a:solidFill>
                  <a:srgbClr val="222268"/>
                </a:solidFill>
                <a:uFillTx/>
                <a:latin typeface="Century Schoolbook"/>
              </a:rPr>
              <a:t>kontroli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 . Tiek attīstīts un ieviests pakāpeniski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Vajadzību izvērtēšanas daļa 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Latvijā veidota metodika (izmantojot pasaules praksi), kuras viena (neliela) daļa – līmeņa noteikšanai ietverta MK 288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APSis uzdevums: </a:t>
            </a:r>
            <a:r>
              <a:rPr b="0" lang="lv-LV" sz="2000" spc="-1" strike="noStrike" u="sng">
                <a:solidFill>
                  <a:srgbClr val="a20000"/>
                </a:solidFill>
                <a:uFillTx/>
                <a:latin typeface="Century Schoolbook"/>
              </a:rPr>
              <a:t>viena vērtēšanas procesa rezultātā</a:t>
            </a:r>
            <a:r>
              <a:rPr b="0" lang="lv-LV" sz="2000" spc="-1" strike="noStrike">
                <a:solidFill>
                  <a:srgbClr val="a20000"/>
                </a:solidFill>
                <a:latin typeface="Century Schoolbook"/>
              </a:rPr>
              <a:t> </a:t>
            </a: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nodrošināt</a:t>
            </a:r>
            <a:r>
              <a:rPr b="0" lang="lv-LV" sz="2000" spc="-1" strike="noStrike">
                <a:solidFill>
                  <a:srgbClr val="a20000"/>
                </a:solidFill>
                <a:latin typeface="Century Schoolbook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1.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Tūlītējus, objektīvus un precīzus vērtējuma rezultātus : </a:t>
            </a: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atzinumu sagatavošanu par visiem iespējamajiem sociālajiem pakalpojumiem»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/ šobrīd klasifikatorā 24 ieraksti / </a:t>
            </a: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kā arī konkrētus rīcības uzdevums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 «rekomendējamās darbības» /šobrīd 20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800" spc="-1" strike="noStrike">
                <a:solidFill>
                  <a:srgbClr val="000000"/>
                </a:solidFill>
                <a:latin typeface="Century Schoolbook"/>
              </a:rPr>
              <a:t>2. izruku sagatavošanu atbilstoši visiem ārējiem normatīvajiem aktiem </a:t>
            </a: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/ šobrīd MK 288 kopā ar pašvaldībās izmantojamo izvērtējuma anketu un Bartela skala/ drīzumā MK 80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4572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928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Maksimāla ērtība lietošanā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visur izmatojams gan stacionārā datora gan ar mobilo versiju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darbībām dzīves vietā)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, ievades lauki vairumā ir definētas izvēlnes «minimāla nepieciešamība rakstīt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Sistēmiska uzbūve -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 algoritmiska (izslēdzoša, pastiprinoša, nosakoša) sasaiste starp visiem informācijas laukiem – «sistēma reaģē uz katru info un izslēdz liekas darbības»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Savienojamība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ar esošām sistēmām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SOPA, Kavis...) 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tehniski iespēja tikt savietotam ar e-veselība, PID …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200" spc="-1" strike="noStrike" u="sng">
                <a:solidFill>
                  <a:srgbClr val="000000"/>
                </a:solidFill>
                <a:uFillTx/>
                <a:latin typeface="Century Schoolbook"/>
              </a:rPr>
              <a:t>Individualizēta lietotājs </a:t>
            </a:r>
            <a:r>
              <a:rPr b="0" lang="lv-LV" sz="2200" spc="-1" strike="noStrike">
                <a:solidFill>
                  <a:srgbClr val="000000"/>
                </a:solidFill>
                <a:latin typeface="Century Schoolbook"/>
              </a:rPr>
              <a:t>sistēma tiek konfigurēta individuāla lietotāja – pašvaldības, pakalpojumu sniedzēja, vajadzībām </a:t>
            </a:r>
            <a:r>
              <a:rPr b="0" i="1" lang="lv-LV" sz="2200" spc="-1" strike="noStrike">
                <a:solidFill>
                  <a:srgbClr val="000000"/>
                </a:solidFill>
                <a:latin typeface="Century Schoolbook"/>
              </a:rPr>
              <a:t>(pievienot iespējamos pakalpojumus, darbus, pakalpojumu sniedzējus, definējot specifiskus algoritmus vai principus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e-aprū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84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Aprūpes līmeņa noteikš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4000" y="1916280"/>
          <a:ext cx="8229600" cy="2865240"/>
        </p:xfrm>
        <a:graphic>
          <a:graphicData uri="http://schemas.openxmlformats.org/drawingml/2006/table">
            <a:tbl>
              <a:tblPr/>
              <a:tblGrid>
                <a:gridCol w="3682800"/>
                <a:gridCol w="1655640"/>
                <a:gridCol w="1368720"/>
                <a:gridCol w="1522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a punkta vērtīb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e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punkta % vērt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atvajadz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ā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is apzināšanā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ved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iskā higiē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īdzība mājsaimniecīb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Piemēram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557360"/>
          <a:ext cx="8229600" cy="3235320"/>
        </p:xfrm>
        <a:graphic>
          <a:graphicData uri="http://schemas.openxmlformats.org/drawingml/2006/table">
            <a:tbl>
              <a:tblPr/>
              <a:tblGrid>
                <a:gridCol w="3683160"/>
                <a:gridCol w="1655640"/>
                <a:gridCol w="1368360"/>
                <a:gridCol w="152244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ul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enu skaits kop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efici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vērt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matvajadz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bilitā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is apzināšanā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vedī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iskā higiē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īdzība mājsaimniecīb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P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1700280"/>
            <a:ext cx="8229600" cy="25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c00000"/>
                </a:solidFill>
                <a:latin typeface="Arial"/>
              </a:rPr>
              <a:t>Demonstrācija </a:t>
            </a:r>
            <a:br>
              <a:rPr sz="4400"/>
            </a:br>
            <a:r>
              <a:rPr b="1" lang="lv-LV" sz="4400" spc="-1" strike="noStrike">
                <a:solidFill>
                  <a:srgbClr val="c00000"/>
                </a:solidFill>
                <a:latin typeface="Arial"/>
              </a:rPr>
              <a:t>www.e-aprupe.lv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Semināra nori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Vispārēja un kopējā informācija par vērtēšanu un līmeņu noteikšan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Vērtēšanas rīku demonstrā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tbilstoši MK noteikumu Nr.288 4.pieliku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atbilstoši MK noteikumu Nr.288 5.pieliku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Praktiskās nodarbības – 2 grupā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8920" y="1941120"/>
            <a:ext cx="7218360" cy="2135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Par Ministru kabineta  21.04.2008. noteikumos Nr. 288 “Sociālo pakalpojumu un sociālās palīdzības saņemšanas kārtība” noteikto aprūpes līmeņu noteikša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LPGO Stripa bez rekvizitiem"/>
          <p:cNvPicPr/>
          <p:nvPr/>
        </p:nvPicPr>
        <p:blipFill>
          <a:blip r:embed="rId1"/>
          <a:stretch/>
        </p:blipFill>
        <p:spPr>
          <a:xfrm>
            <a:off x="0" y="4508640"/>
            <a:ext cx="9144000" cy="1568160"/>
          </a:xfrm>
          <a:prstGeom prst="rect">
            <a:avLst/>
          </a:prstGeom>
          <a:ln w="0">
            <a:noFill/>
          </a:ln>
        </p:spPr>
      </p:pic>
      <p:sp>
        <p:nvSpPr>
          <p:cNvPr id="115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Attēls 5" descr=""/>
          <p:cNvPicPr/>
          <p:nvPr/>
        </p:nvPicPr>
        <p:blipFill>
          <a:blip r:embed="rId2"/>
          <a:stretch/>
        </p:blipFill>
        <p:spPr>
          <a:xfrm>
            <a:off x="135000" y="125280"/>
            <a:ext cx="3284640" cy="154620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2411280" y="981000"/>
            <a:ext cx="62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95280" y="728640"/>
            <a:ext cx="849636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LSA direktors Andris Bērziņ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andris.berzins@samariesi.lv 2924245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SIA «e-aprūpe» projekta vadītājs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Sistēmas administrators Rihards Bērziņ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info@e-aprupe.lv 263610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entury Schoolbook"/>
              </a:rPr>
              <a:t>eaprupe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4211640" y="6021360"/>
            <a:ext cx="4753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Bija un ir jeb </a:t>
            </a:r>
            <a:br>
              <a:rPr sz="4000"/>
            </a:b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opīgais un atšķirīgai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71480"/>
          <a:ext cx="8362800" cy="4297680"/>
        </p:xfrm>
        <a:graphic>
          <a:graphicData uri="http://schemas.openxmlformats.org/drawingml/2006/table">
            <a:tbl>
              <a:tblPr/>
              <a:tblGrid>
                <a:gridCol w="3178080"/>
                <a:gridCol w="51847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 288 līdz grozījumi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 288  - 28. novembra grozījumi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932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ērtē personas vajadzības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, 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ekļaujot personas vajadzību novērtēšanas kartē informāciju atbilstoši šo noteikumu 2.pielikumam, ja pilngadīga persona pieprasījusi kādu no šādiem sociālajiem pakalpojumiem .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.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vērtē personas vajadzības </a:t>
                      </a:r>
                      <a:r>
                        <a:rPr b="1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un nosaka aprūpes līmen</a:t>
                      </a: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ja persona ir pieprasījusi sociālās aprūpes pakalpojumu dzīvesvietā vai ilgstošas sociālās aprūpes un sociālās rehabilitācijas institūcijā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 Šo noteikumu </a:t>
                      </a:r>
                      <a:r>
                        <a:rPr b="0" lang="lv-LV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/>
                        </a:rPr>
                        <a:t>4. 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 6. pielikumā minēto novērtēšanas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arti ar izvērtēšanas rezultātiem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zmanto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klienta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prūpes organizēšanā 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 funkcionālo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pēju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zmaiņu </a:t>
                      </a:r>
                      <a:r>
                        <a:rPr b="0" lang="lv-LV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ovērtēšanā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ja klients saņem sociālās aprūpes pakalpoju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Sociālās aprūpes pakalpojumu sniedzējs klienta aprūpes līmeni ņem vērā, sastādot klienta sociālās aprūpes vai sociālās rehabilitācijas plān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p:transition spd="med" advTm="7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900000" y="746280"/>
            <a:ext cx="352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jadzības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Vajadzību kop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339840" y="21477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Līm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1273320" y="29401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Rekomendējamās darbības (pakalpojum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4888080" y="728640"/>
            <a:ext cx="38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šaprūpes spējas/prasmes (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"/>
          <p:cNvSpPr/>
          <p:nvPr/>
        </p:nvSpPr>
        <p:spPr>
          <a:xfrm>
            <a:off x="7032600" y="21477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Līme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8"/>
          <p:cNvSpPr/>
          <p:nvPr/>
        </p:nvSpPr>
        <p:spPr>
          <a:xfrm>
            <a:off x="4421160" y="2136600"/>
            <a:ext cx="216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Rekomendēja mās darbī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(vajadzīb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1413000" y="4808520"/>
            <a:ext cx="272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Aprūpes/rehabili tācijas plā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1"/>
          <p:cNvSpPr/>
          <p:nvPr/>
        </p:nvSpPr>
        <p:spPr>
          <a:xfrm>
            <a:off x="6012000" y="4071960"/>
            <a:ext cx="275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Aprūpes/rehabili tācijas plā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4956120" y="5516640"/>
            <a:ext cx="38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Arial"/>
              </a:rPr>
              <a:t>Un tas viss dinamikā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Taisns bultveida savienotājs 14"/>
          <p:cNvCxnSpPr/>
          <p:nvPr/>
        </p:nvCxnSpPr>
        <p:spPr>
          <a:xfrm flipH="1">
            <a:off x="1369440" y="1589040"/>
            <a:ext cx="376920" cy="55908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6" name="Taisns bultveida savienotājs 15"/>
          <p:cNvCxnSpPr/>
          <p:nvPr/>
        </p:nvCxnSpPr>
        <p:spPr>
          <a:xfrm>
            <a:off x="2525760" y="1633320"/>
            <a:ext cx="7200" cy="1161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7" name="Taisns bultveida savienotājs 17"/>
          <p:cNvCxnSpPr/>
          <p:nvPr/>
        </p:nvCxnSpPr>
        <p:spPr>
          <a:xfrm flipH="1">
            <a:off x="2525040" y="4240080"/>
            <a:ext cx="1080" cy="5738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68" name="Taisns bultveida savienotājs 19"/>
          <p:cNvCxnSpPr/>
          <p:nvPr/>
        </p:nvCxnSpPr>
        <p:spPr>
          <a:xfrm flipH="1">
            <a:off x="5562000" y="1595520"/>
            <a:ext cx="376920" cy="558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69" name="TextBox 20"/>
          <p:cNvSpPr/>
          <p:nvPr/>
        </p:nvSpPr>
        <p:spPr>
          <a:xfrm>
            <a:off x="92160" y="4370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bal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Taisns bultveida savienotājs 21"/>
          <p:cNvCxnSpPr/>
          <p:nvPr/>
        </p:nvCxnSpPr>
        <p:spPr>
          <a:xfrm>
            <a:off x="860040" y="2715840"/>
            <a:ext cx="1080" cy="16470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1" name="Taisns bultveida savienotājs 24"/>
          <p:cNvCxnSpPr/>
          <p:nvPr/>
        </p:nvCxnSpPr>
        <p:spPr>
          <a:xfrm>
            <a:off x="6933960" y="1568520"/>
            <a:ext cx="525960" cy="55908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2" name="Taisns bultveida savienotājs 27"/>
          <p:cNvCxnSpPr/>
          <p:nvPr/>
        </p:nvCxnSpPr>
        <p:spPr>
          <a:xfrm>
            <a:off x="7490880" y="2715840"/>
            <a:ext cx="1080" cy="118980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3" name="Taisns bultveida savienotājs 30"/>
          <p:cNvCxnSpPr/>
          <p:nvPr/>
        </p:nvCxnSpPr>
        <p:spPr>
          <a:xfrm flipH="1">
            <a:off x="6638040" y="2793960"/>
            <a:ext cx="513720" cy="7214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4" name="TextBox 35"/>
          <p:cNvSpPr/>
          <p:nvPr/>
        </p:nvSpPr>
        <p:spPr>
          <a:xfrm>
            <a:off x="7729560" y="31971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bal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6"/>
          <p:cNvSpPr/>
          <p:nvPr/>
        </p:nvSpPr>
        <p:spPr>
          <a:xfrm>
            <a:off x="4221000" y="3622680"/>
            <a:ext cx="20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Arial"/>
              </a:rPr>
              <a:t>Pakalpojum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Taisns bultveida savienotājs 37"/>
          <p:cNvCxnSpPr/>
          <p:nvPr/>
        </p:nvCxnSpPr>
        <p:spPr>
          <a:xfrm>
            <a:off x="7897320" y="2755800"/>
            <a:ext cx="313560" cy="5486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7" name="Taisns bultveida savienotājs 42"/>
          <p:cNvCxnSpPr>
            <a:endCxn id="75" idx="0"/>
          </p:cNvCxnSpPr>
          <p:nvPr/>
        </p:nvCxnSpPr>
        <p:spPr>
          <a:xfrm>
            <a:off x="5180040" y="3400200"/>
            <a:ext cx="69120" cy="2228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78" name="Taisns bultveida savienotājs 45"/>
          <p:cNvCxnSpPr/>
          <p:nvPr/>
        </p:nvCxnSpPr>
        <p:spPr>
          <a:xfrm>
            <a:off x="6299280" y="3384360"/>
            <a:ext cx="348480" cy="705240"/>
          </a:xfrm>
          <a:prstGeom prst="straightConnector1">
            <a:avLst/>
          </a:prstGeom>
          <a:ln w="648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med"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236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000000"/>
                </a:solidFill>
                <a:latin typeface="Century Schoolbook"/>
              </a:rPr>
              <a:t>Aprūpes līmenis ir </a:t>
            </a:r>
            <a:br>
              <a:rPr sz="3600"/>
            </a:br>
            <a:r>
              <a:rPr b="0" lang="lv-LV" sz="3600" spc="-1" strike="noStrike">
                <a:solidFill>
                  <a:srgbClr val="000000"/>
                </a:solidFill>
                <a:latin typeface="Century Schoolbook"/>
              </a:rPr>
              <a:t>- personas pašaprūpes spēju iztrūkuma pakāpi raksturojoša, </a:t>
            </a:r>
            <a:br>
              <a:rPr sz="3600"/>
            </a:br>
            <a:r>
              <a:rPr b="0" lang="lv-LV" sz="3600" spc="-1" strike="noStrike">
                <a:solidFill>
                  <a:srgbClr val="000000"/>
                </a:solidFill>
                <a:latin typeface="Century Schoolbook"/>
              </a:rPr>
              <a:t>- skaitliski izteikta vērtīb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4000" y="3284280"/>
            <a:ext cx="8424720" cy="20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entury Schoolbook"/>
              </a:rPr>
              <a:t>Ar MK noteikumu grozījumiem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noteikta valstī vienota un modernizēta pieeja aprūpes līmeņa noteikšan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noteikti ierobežojumi saņemt pakalpojumus institūcijā (tikai personas ar 3. un 4.līmeni), kam pakopojumus nevar nodrošināt dzīvesviet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as vērtē?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(33.punk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33280" y="1417680"/>
            <a:ext cx="822960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lienta vajadzību izvērtēšanu un aprūpes līmeņa noteikšanu var veikt šādu institūciju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ie darbinieki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 vai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ie aprūpētāji 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(turpmāk – speciālist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tās </a:t>
            </a:r>
            <a:r>
              <a:rPr b="1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as </a:t>
            </a:r>
            <a:r>
              <a:rPr b="0" lang="lv-LV" sz="2400" spc="-1" strike="noStrike" u="sng">
                <a:solidFill>
                  <a:srgbClr val="000000"/>
                </a:solidFill>
                <a:uFillTx/>
                <a:latin typeface="Century Schoolbook"/>
              </a:rPr>
              <a:t>sociālā dienesta vai tā deleģētas institūcijas speciālists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, kuras teritorijā deklarēta klienta dzīvesvi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lgstošas sociālās aprūpes un sociālās rehabilitācijas institūcijas speciā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79280" y="515772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Cita pakalpojuma sniedzējs (izņemt SAC) var vērtēt, ja šo uzdevumu tam līgumā, nolikumā ir deleģējis/uzdevis sociālais dienests. Atbildība paliek sociālajam dienest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entury Schoolbook"/>
              </a:rPr>
              <a:t>Vērtēšanā var piedalīties citi specialisti – atbildīgais ir attiecīgi sociālaisi darbinieks vai sociālais aprūpētājs</a:t>
            </a: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ad vērtē ?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(31.un 32.punkt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24000" y="1433520"/>
            <a:ext cx="82296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Kad klients (pārstāvis) pieprasa pakalpojumu dzīvesvietā vai SAC un aprūpes līmenis iepriekš nav bijis noteik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ja klients saņem pakalpojumu dzīvesvietā vai SAC un vismaz pēdējo triju mēnešu laikā konstatētas nepārejošas klienta funkcionālo spēju izmaiņ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zstrādājot un aktualizējot (minimāli - MK.338, bet drīkst biežāk) klienta individuālo sociālās rehabilitācijas vai sociālās aprūpes plān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ja klients vai tā likumiskais pārstāvis pieprasa citam aprūpes līmenim atbilstošu sociālās aprūpes pakalpojumu.</a:t>
            </a: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Kuru vērtēšanas karti un kad ir jāizmanto 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1773000"/>
            <a:ext cx="8569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ašvaldība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i="1" lang="lv-LV" sz="2400" spc="-1" strike="noStrike">
                <a:solidFill>
                  <a:srgbClr val="000000"/>
                </a:solidFill>
                <a:latin typeface="Century Schoolbook"/>
              </a:rPr>
              <a:t>(pilnīgi visiem pašvaldības finansētiem pakalpojumiem, visiem klientiem – gan GRT gan FRT) </a:t>
            </a: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pēc izvēles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K 288 4. vai 5. pielikumā ietveros kritērij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lv-LV" sz="2400" spc="-1" strike="noStrike">
                <a:solidFill>
                  <a:srgbClr val="000000"/>
                </a:solidFill>
                <a:latin typeface="Century Schoolbook"/>
              </a:rPr>
              <a:t>Izvēli nosaka lietderīgums jeb iespēja </a:t>
            </a:r>
            <a:r>
              <a:rPr b="0" lang="lv-LV" sz="3200" spc="-1" strike="noStrike">
                <a:solidFill>
                  <a:srgbClr val="000000"/>
                </a:solidFill>
                <a:latin typeface="Century Schoolbook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noteikt vajadzībām atbilstošākos sociālos pakalpojumus un to apjom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entury Schoolbook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entury Schoolbook"/>
              </a:rPr>
              <a:t>Izstādāt individuālo sociālās aprūpes/rehabilitācijas plān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00"/>
                </a:solidFill>
                <a:uFillTx/>
                <a:latin typeface="Century Schoolbook"/>
              </a:rPr>
              <a:t>Valsts finansēts SAC </a:t>
            </a: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MK 288 5. pielikumā ietveros kritērijus un 6. pielikuma protokol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0800" y="333000"/>
            <a:ext cx="88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0000"/>
                </a:solidFill>
                <a:latin typeface="Century Schoolbook"/>
              </a:rPr>
              <a:t>Vērtēšanas process (kopumā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81160" y="1628640"/>
            <a:ext cx="8640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erosinājums (iesniegums, signāls u.c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Vienošanās par laiku, vietu un komunikācijas veidu (ja ir apgrūtinājumi konsultēties ar ekspertiem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Izvērtēšana – intervija ar kontroljautājumiem – kontroljautājumi - palīginstruments iezīmē jēgu, var mainīt, papildinā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Dokumentēšana – eletroniski vai papīr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entury Schoolbook"/>
              </a:rPr>
              <a:t>Pabeigšana – klients jāiepazīstina, bet jāparaksta nav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0:25:09Z</dcterms:created>
  <dc:creator>Andris</dc:creator>
  <dc:description/>
  <dc:language>en-US</dc:language>
  <cp:lastModifiedBy>Elvira Grabovska</cp:lastModifiedBy>
  <cp:lastPrinted>2018-01-17T13:32:59Z</cp:lastPrinted>
  <dcterms:modified xsi:type="dcterms:W3CDTF">2018-01-29T07:03:58Z</dcterms:modified>
  <cp:revision>153</cp:revision>
  <dc:subject/>
  <dc:title>Slide 1</dc:title>
</cp:coreProperties>
</file>