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</p:sldMasterIdLst>
  <p:notesMasterIdLst>
    <p:notesMasterId r:id="rId89"/>
  </p:notesMasterIdLst>
  <p:sldIdLst>
    <p:sldId id="256" r:id="rId90"/>
    <p:sldId id="257" r:id="rId91"/>
    <p:sldId id="258" r:id="rId92"/>
    <p:sldId id="259" r:id="rId93"/>
    <p:sldId id="260" r:id="rId94"/>
    <p:sldId id="261" r:id="rId95"/>
    <p:sldId id="262" r:id="rId96"/>
    <p:sldId id="263" r:id="rId97"/>
    <p:sldId id="264" r:id="rId98"/>
    <p:sldId id="265" r:id="rId99"/>
    <p:sldId id="266" r:id="rId100"/>
    <p:sldId id="267" r:id="rId101"/>
    <p:sldId id="268" r:id="rId102"/>
    <p:sldId id="269" r:id="rId103"/>
    <p:sldId id="270" r:id="rId104"/>
    <p:sldId id="271" r:id="rId105"/>
    <p:sldId id="272" r:id="rId106"/>
    <p:sldId id="273" r:id="rId107"/>
    <p:sldId id="274" r:id="rId108"/>
    <p:sldId id="275" r:id="rId109"/>
    <p:sldId id="276" r:id="rId1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notesMaster" Target="notesMasters/notesMaster1.xml"/><Relationship Id="rId90" Type="http://schemas.openxmlformats.org/officeDocument/2006/relationships/slide" Target="slides/slide1.xml"/><Relationship Id="rId91" Type="http://schemas.openxmlformats.org/officeDocument/2006/relationships/slide" Target="slides/slide2.xml"/><Relationship Id="rId92" Type="http://schemas.openxmlformats.org/officeDocument/2006/relationships/slide" Target="slides/slide3.xml"/><Relationship Id="rId93" Type="http://schemas.openxmlformats.org/officeDocument/2006/relationships/slide" Target="slides/slide4.xml"/><Relationship Id="rId94" Type="http://schemas.openxmlformats.org/officeDocument/2006/relationships/slide" Target="slides/slide5.xml"/><Relationship Id="rId95" Type="http://schemas.openxmlformats.org/officeDocument/2006/relationships/slide" Target="slides/slide6.xml"/><Relationship Id="rId96" Type="http://schemas.openxmlformats.org/officeDocument/2006/relationships/slide" Target="slides/slide7.xml"/><Relationship Id="rId97" Type="http://schemas.openxmlformats.org/officeDocument/2006/relationships/slide" Target="slides/slide8.xml"/><Relationship Id="rId98" Type="http://schemas.openxmlformats.org/officeDocument/2006/relationships/slide" Target="slides/slide9.xml"/><Relationship Id="rId99" Type="http://schemas.openxmlformats.org/officeDocument/2006/relationships/slide" Target="slides/slide10.xml"/><Relationship Id="rId100" Type="http://schemas.openxmlformats.org/officeDocument/2006/relationships/slide" Target="slides/slide11.xml"/><Relationship Id="rId101" Type="http://schemas.openxmlformats.org/officeDocument/2006/relationships/slide" Target="slides/slide12.xml"/><Relationship Id="rId102" Type="http://schemas.openxmlformats.org/officeDocument/2006/relationships/slide" Target="slides/slide13.xml"/><Relationship Id="rId103" Type="http://schemas.openxmlformats.org/officeDocument/2006/relationships/slide" Target="slides/slide14.xml"/><Relationship Id="rId104" Type="http://schemas.openxmlformats.org/officeDocument/2006/relationships/slide" Target="slides/slide15.xml"/><Relationship Id="rId105" Type="http://schemas.openxmlformats.org/officeDocument/2006/relationships/slide" Target="slides/slide16.xml"/><Relationship Id="rId106" Type="http://schemas.openxmlformats.org/officeDocument/2006/relationships/slide" Target="slides/slide17.xml"/><Relationship Id="rId107" Type="http://schemas.openxmlformats.org/officeDocument/2006/relationships/slide" Target="slides/slide18.xml"/><Relationship Id="rId108" Type="http://schemas.openxmlformats.org/officeDocument/2006/relationships/slide" Target="slides/slide19.xml"/><Relationship Id="rId109" Type="http://schemas.openxmlformats.org/officeDocument/2006/relationships/slide" Target="slides/slide20.xml"/><Relationship Id="rId110" Type="http://schemas.openxmlformats.org/officeDocument/2006/relationships/slide" Target="slides/slide21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dt" idx="25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 type="ftr" idx="26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6"/>
          <p:cNvSpPr>
            <a:spLocks noGrp="1"/>
          </p:cNvSpPr>
          <p:nvPr>
            <p:ph type="sldNum" idx="26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43C8B-BB91-4938-9B6A-AFF15A2171EA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A2E12-72F1-4871-B987-6A7288CDEE7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5808A-57D9-4FBB-ADD4-224ECF6AF29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9B55D-A187-4C09-AE74-AB7434BDFD7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CC1CC-DAC5-4035-9251-80676FF0544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6D6D06E-B700-44C2-AFCF-B1C1BA5D143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6A5E0-2968-4A20-92A7-CCC490E4B23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9E10B7-D0CF-4E9C-94A4-C13B15ECD45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60820-F629-4E59-A511-290F188CACB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8D18B-9C4F-47ED-AC14-C379B9462D4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A98BC-5F84-44AE-9C19-87FCDB5468D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B634E-A3C6-41CB-BAB0-6E2FC757CF9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2D4DE6A-D424-48F9-BD73-F6766D4F458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44C33-252F-4498-BA21-3C2B55914CF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86912-8C12-41D0-81A0-83C48F050EF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2A281-7F26-436C-835F-BE574B72F6A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8678AC-727C-478C-A8F3-CDDF6981BCD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72010-A93F-4BBB-8E60-BF5444504EC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A34F5-9BEB-4392-BFE3-689EDFD673C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BA375-02CD-4D5A-B6C5-053E2074F5E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3D38A9-6155-4744-B089-CB8245E4782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C893-7B25-4FBE-99A9-3CB59C01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E07-3BB8-4E05-85BF-18776A97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4347E-C3A4-49C3-AF53-645B8424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CE6E798-C8AE-4280-A90B-D0077FD1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C3FC933-0F75-4B4E-B1EA-13F117DD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393C544-7B4B-44F3-90CA-4EE16A80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AC1814C-A110-477B-BD0C-C19E31B1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568533A-639A-4989-962F-A94F14FE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5057B08-2468-461C-AC5E-74F225F3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76D4670-36F7-4240-8B8D-B19A9975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36FB5DA-B6D1-47AA-9780-B1BE3821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46F54EB-DA0F-497C-B2F5-5FA1DD8A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ECEA07E-82F6-4185-B7B2-5B52A802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BD61E-ABAF-4555-A0F1-2CCA280C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061BDE5-90FD-4205-8534-AD0D6C3A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1654313-6202-451E-99BE-E5EC85E9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8BE88EC-9DD7-4BDA-9360-A392E3E7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046D414-5B35-442D-950A-551C9829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5C78F4F-8002-463D-8807-554E38B7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5A21405-074A-4DF8-93F4-7AD64481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942C464-924E-44F7-B491-8C7F4628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EC60D33-8794-4C2E-9597-632A6682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541CD88-DC6A-4E7F-8C67-FC27261C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43E05DD-2929-4A51-A411-64E3F330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4A083-2951-4A41-A4CB-4334415C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BBC40C8-3FD0-4304-A441-AA2E1311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B5ED542-39F4-4ABB-9209-6286428B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064109B-A0E4-4888-A3BB-C00D97E8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7236861-F1A0-4AB4-8816-D5213477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846E4DD-624D-4E91-926F-8905E40A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6C26207-0460-4A02-ADC8-C561C3E3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F1AECE1-5BC0-4EF1-85C2-304E6387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AEA1F7C-9455-44E3-9E1A-BD90BE7B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B74F84A-EBB2-41B5-9C35-89910B3E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879944F-D76D-4E1E-8CB6-AF677D57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8FDB5-E153-4CA8-8CA4-CE7A1D66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EFC682D-35A1-46E1-B179-761177AB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0495984-FBA1-4D7B-A9E1-CF1E5D57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61EFFE8-EE36-40C3-91C8-260E987A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506E8A7-7034-4514-A0E3-0476D0F2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E69B72D-E4AC-4775-BE9B-4EC5F9C8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AA8C5C5-50D5-4CFC-847E-0F750BD1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29F96B7-A86F-4A32-A253-6935B5B7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034BF43-5729-4785-8669-C7BD9783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64F39B2-B872-415A-91CE-73FA0622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54D4D9F-0A01-4493-9878-E1035910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E2CA3-9D3F-4AE1-881A-C5112628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09C43DF-F4C3-41F4-B063-9137DCD0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3E4D175-EC58-407B-9F97-AE1CC3E4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D878591-D7EE-4C5F-B8BB-448430C2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3A7D36A-C8F6-4273-BE30-04E79485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339A46A-7A38-4C41-A5F7-A2566FED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59134-E9DD-45F0-9058-D9EB455F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81E23-F069-4A17-BFA0-071EBCA0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27AE7-53A8-4800-A024-99BB3BED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71EDF-5944-4602-A39D-67BE2A35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5EE9A-81A5-4093-B94E-170E2F84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4A8-A8F6-418F-AABD-68339D55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906F3-B683-4201-85AF-E746161A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189BB-8907-4C8B-96BD-F5707FA1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3BF03-8A9C-4026-97FE-753898C6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3BAC7-E4B2-40A6-9DCC-A7A5D8F4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7E504-36AC-4D1E-9FFA-F28F936F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B3393-A5DB-4B06-B3C0-CC68C903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7FE7A-69FB-412D-A1F8-C9FF870B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38307-E478-45BE-950E-3D574A55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1EB78-2462-49D6-997E-DF28D67C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92E3C-D160-491F-BBAA-F2982133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3885-BC63-444C-8D35-9AF5A3B8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73ED8-4AA4-455F-B794-1570DDB4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CD4D0-F27C-48C3-9130-55E48E0E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CE41A-F69C-4478-BCD9-08268565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717DB-690E-4DC6-B2D8-C61B8DB4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AD1D6-3611-4DBA-A133-214BF0D9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68931-425D-4462-A83F-85DB432E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6DDCC-5ACA-410F-BE63-9A477067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62ECB-22FB-4F02-BFE2-14F484EA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5C457-18AE-49F1-863E-7DB03CC2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05B21-702C-4878-9122-C7F7C731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C398-A194-4A0F-8A2D-180059AD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CEA57-E125-4A26-94F6-6AC9A6DF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A4BE7-5131-4CDE-9496-D2BCFBD5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FBC93-D8CD-44B4-9165-86FB2DDC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69FB3-F4D9-4141-9349-7FC26919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5C23D-AEC2-4B8D-AFB9-C345565A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09346-3FA6-4CD0-941A-A12730A6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B477D-A5DD-43B6-98AB-8528F476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328AA-6FA8-47B7-A1BA-C4763382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44C5B-6109-4B6B-B2F2-FC3A2634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362D9-E7A3-494F-ACB8-2616AF22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8BAB-4C00-4A24-971E-7327B75D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98383-5296-47B4-A4A7-BCC3EB63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171F5-C2FF-4A04-AAEE-48977699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21F85-3FED-4822-A30E-E313E722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47A66-469A-4CFE-955D-7BA9739E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99DF8-6A45-413E-B74B-10B9697F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B5B23-29C0-466D-9EE0-850FE2EB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ADE34-80B7-4CC0-9449-2D338B91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B7DEF5-3D23-443E-AEB2-CE7B999B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689E9-5058-47FC-83DE-17EFE0CA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17E4AE-58B3-4479-978B-38BB45BB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7FDE-00CD-4182-BDA6-4D55E74C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FC425-CD07-471B-B6C3-3A3BF754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D94E74-2356-42F9-89FE-2A6CD8A2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30E6F-4492-41A9-B32A-EE6302E2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D4A40-26E5-4097-9ABA-1ED6A28C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CA36CC-5F27-48F1-9671-64AE4CEC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671E1-21A7-4607-9357-1DDC57E2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A323C-82C8-4811-994A-1764FA65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420B4C-4FA9-49EF-B62E-EF0E29B9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1F91CE-3BEE-4415-A485-34EFC347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2B5F22-9736-44FA-A2D7-A3EB184C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172E-2818-448D-8BEE-88810F67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26BEBC-C888-4968-83AA-1045C20F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E54957-9727-45C4-9CB1-BFA9C0AA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6364A6-B220-4C59-8BA2-2BE14FA8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66AA0F-72E4-43B6-9F8D-54582D4E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794EB-1499-4804-9B3B-F3A2CC98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1E9AEC-83D3-4F6B-8671-082933A0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627C1-B93A-4C01-923B-9AE362CC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8AA80E-597D-408C-8315-A99EEF66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00A51-F231-41D5-9C6C-CCE1B723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7EDD93-C25C-46C6-B5A2-15D2F45D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516E-0CE7-45AC-B43D-09DF8CD8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49565E-FB60-4C7D-BAB0-EFE11D14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B011A8-1582-4F1C-9D41-DDCB09A5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FF14AA-6601-4A79-A237-54E27031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4D4ABD-6F92-4A81-AE01-10939455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F4B128-4E39-443F-9EDF-E888E346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49D8AB-8B8C-4919-B215-8D216A3D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E269FF-1153-4E54-B498-3BB94448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4EC642-8F30-44A1-A0EB-29513B50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38921D-CA32-4723-AA5A-7050993E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13CB1C-654A-468C-9040-09F37452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D1CE-9CB6-4483-B3FB-AC88ED1E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3BCC91-E531-4F1F-BA2D-DBECA6AC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E7273E-DF66-4234-8FE3-4446B755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97132D-CB79-4A46-9C70-5EF5DF6A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212173-3799-4262-9B46-BFD19E4D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008185-A71A-4FCC-80C6-27894B04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0E5040-44BB-494E-B0F4-93120573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5CB1F6-606A-471C-80C0-7894F998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4E432C-8508-4964-AA76-CCE6694F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F4653F-141E-433C-8A63-BBF9D8F6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F52E97-7D78-48C0-973B-B2B01401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75F7-6CE3-4A0C-A00C-649DC95F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ADA559-F1A9-407A-971C-8F2BD23D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01AC17-C541-4355-8A50-55F4DF32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77AF0A-19D5-491A-887A-B867D80F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A95656-B646-408E-95A4-94635F73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C6CC00-28BE-4447-81ED-9F83BCB8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20869B-FBBC-4EAC-9AC2-EBF9212B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DF1907-CCF4-4504-95C7-D3566768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833A71-77B6-4F86-944C-7E878C0E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DE97AD-A14A-4203-80AA-C5E45F2E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A96569-0CE3-4CB1-8D45-C6A13A93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07AA-890A-4D32-B948-B4B48AC7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4F5A-E372-47E6-A209-6578481E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3D95E6-1143-4183-8D81-1EE4D83A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DAD0BE-E8C9-47C6-8DB8-30F330F9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69FA74-D511-4A6D-8E92-D10952D7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93DBAE-41A4-444D-90E0-134FDA1A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354BE8-11F1-423B-B584-13FE2191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18F769-8904-4D2A-B351-1904EACC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838C2C-EBC5-4492-B655-001346C2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340D5E-0979-496A-9A20-64895073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D69EAF-C376-4303-A3E7-302F791F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E17EE5-4FCE-420A-96C7-0600BD27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1DF5-3C34-4FCA-A17C-15DCF7AC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07B72E-DCCF-49A4-B71F-148C309F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DE1EDF-83C0-4774-AB9D-4FAA8BF8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896C38-0234-482C-B2B8-4D3A2217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9BB906-3545-4043-B7CA-D8AE5C41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5B8F7F-71F0-431C-AB95-FFAEA541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DEF278-4DDF-4C9C-A18D-8964544B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E0914C-5DDB-4320-89F4-1B27211A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32E4C53-7D75-432B-8DB1-4D64006A718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6E63E63-6B65-4D39-92A9-68D12505834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09586C4-BF9D-4B5D-866A-F6FA1274B1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52F2-4083-4DBD-90EE-FCF739D3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C22A92E-2732-45B7-8861-BB37D211A17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4557286-1DB3-4F86-8310-5CB7F2B142B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21BBD8B-6D7D-4A69-87FA-E4E7E983314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AA43F3C-946D-40A0-A7F5-2BD40B77D5C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DA6AF96-DF50-4148-964D-5284EEADC09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9F91B31-D388-4FEE-89BB-20C7112CDA8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C5950ED-FAA9-44B2-B7B6-D6AF8A719C6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1D4A200-4666-483C-BEAF-2626EBF216D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ABF3484-FC87-4DD2-86E6-5C89384C1A2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0BAF159-CDE7-4B4C-A455-7ACA92A9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7CA7-6049-4CB5-B92B-27398669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3E1CA8A-31B1-48D4-A161-472D4BD6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281CA31-0694-4229-9920-AACB8C5D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98269C4-78B2-48FA-87FF-7EE63695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C7A1F0A-E1F0-4BD3-AB9C-188B5F3B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750A010-60ED-4B4D-9841-B1120272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D6E82BC-5DE5-463E-AC71-439826A1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278F968-BE3B-47ED-8A0F-F47A95B2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A31D4E3-C5B9-4510-8610-958C62EA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0311D90-3C64-4F8A-B9CB-619185E1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DBB57D7-7C05-4303-AE93-FBBFB091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45C6-CA87-4810-B1E7-49A794C9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62AA869-AA00-45E5-869E-C2877E16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1D0083A-93FB-4DE6-B455-8E4A935A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0319B16-95D9-40F1-A614-A3A40A43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AC5D72D-91C2-47F9-B2B5-E10FA3D7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8873A1A-BC0A-4E80-A8BE-14A80676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5E01376-1C7E-4852-9EC8-438A3630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D2B494D-A8ED-40F1-BF50-72CAC34C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20A81F3-181A-4027-A3CF-9910FA89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6A7588F-7C13-47D5-9115-EA5362F8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58C7FEE-333F-4C77-9048-9C7A93BF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B11E0-08A0-430E-A7E8-4D494B7D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06666D4-2BBA-4C2F-B8B5-8B39CB2D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43A53D6-D407-4E99-8F18-ECE3F029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E3C48CF-A615-4837-8615-CE710E8C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FEC63B1-820A-41E7-907A-F598528F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7BE2548-909D-4B96-BF73-53EE73E9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1943A14-AC0C-452F-B6F1-EE60C204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78541FE-1177-46AE-A23A-C1212494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A43BF9C-9ECA-46C9-A165-07455BEF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66C6633-4E75-4595-9813-471E8202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26940A0-EF21-492E-AE95-28EA0854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4F687-0B77-4527-B1A2-0DCAF807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0A156BF-27AB-4B26-8717-95F8B6F2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45B37FA-21DA-43BA-BA74-06A1089A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FE7916A-2F04-4F7D-914E-1118B1E1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73A4C37-6F7B-4425-8443-F7BDC7E0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A1B9D31-48C4-4121-91EA-2E6C3811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2049890-5931-407F-96FF-7C793CCC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F04A4F8-BF08-48D9-873C-8B413D55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0C87075-2888-49B6-A230-83506936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39EF179-5BEE-47B3-A255-10538200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77D8AEB-FBC2-4500-9C13-F9F0D701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D4172-930F-4ED9-BA41-2240A89D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952726D-1EF5-4208-8E96-EF5CFD92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CDF5EC1-78C8-4E1B-AC55-5E81E0AE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B39DB1E-144B-42DB-A1DE-68C88180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F41FDC5-2338-442B-A1DC-78F2EF88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3B40C24-D4EB-4562-95FA-48D6061E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023167D-8062-4D2E-8646-CDD9B410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EFC20D2-8F56-4A9D-9B2F-073DAE5C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47C28B7-0992-4453-A7F1-61B18989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B593C04-D4AA-4264-8117-EB3AE768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B3502A9-362B-4A8D-86A4-8CBD0CC2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2AB1B-3385-45B5-ABBE-ABA91481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D62AC89-DE79-4EA1-B9A3-EAEAB1F5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5744264-7183-45AD-8223-6EAE0CE7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BC69067-7B87-4639-90FD-F1E17B08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6B99E51-815B-48D3-A2CF-63AE1A8A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E59D0D0-8A18-4806-B408-77978851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2268F50-5ED3-4AA1-9134-40807841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C0AC8DE-C1E0-4D2A-92C9-3C12505A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CED6F43-AF3C-4716-BE38-38474E56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46A2782-B9C2-4C84-B7B3-40F5BA5E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34AF0C7-6B24-4710-8DE7-F551418B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DF1F9-FA99-4DA7-833F-C88F3374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6D37C8E-A664-4182-A9A3-908C0B2D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F9E9C73-F876-48F8-8B8D-0EE4020C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14D535C-2C26-4F4B-AB5D-107A6D4B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68A878A-1D14-408E-A538-DD631E84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B92E914-17BA-4D48-B3BB-AEA6087A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9B19335-E844-4127-84F2-718EC375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39DC575-85EB-4BB7-9A48-DC341474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920DD4E-586D-4E94-A9E2-31DDA614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8AE2B98-2E24-410D-A832-DA5B82FE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C87BD6B-0510-4E8F-8640-9737319B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C33-8A8A-41FF-8642-6B4A24D0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CABE4-C6D3-4C5E-8E6F-EC3CB3A3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086D143-D7D5-401F-8011-C5BAB685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ECC37D7-4B41-4C14-A4A9-B895BB1A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C5629B4-23F4-4D05-BCC4-727C905F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3C6652B-ACB9-45D7-99EB-9292CD82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BB658E9-CAA1-404F-9C29-C57CE89F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9FC3967-984F-4851-BA2E-05722731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4B31C4D-BD66-4030-83B0-3D70E1FE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602B83D-9690-4D06-B833-65542890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840EED8-B12F-4082-992B-9E6A366F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F0BA2AA-A5FB-42A6-8DCD-B3AC100D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1D7CF-23C8-4B95-83DB-056F041D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9B8E6E0-69AF-435B-A37F-3A84618B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1F70C02-6537-4CFF-AB8E-851C76F7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7128E2F-F08C-4FE3-8FF7-038AC208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167C570-DFED-46EC-8A8A-19594C06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109E264-5C13-4CB1-8284-A896F402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06886E7-15E3-4AE8-8EB2-4513128F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DEB4A20-31EB-4154-944C-2CF425B8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A02963D-BB4C-417B-8C97-9405DC86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6379E37-7BDE-491F-814B-B0ADFD32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1413948-740C-4370-A742-CF5AA672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F92A7-E24E-4DDD-8929-FC7EFE1E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871C8C6-FD43-46A7-BCCC-C8D4B017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A837063-EF18-4C4D-B6E2-94DD0520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4C95BD0-6283-4334-99DB-6D7E409A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1E014A4-936D-4BF8-ABA8-13ED24B0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0B44177-727D-45A7-A2DB-F0ADBC08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DF68F64-62FA-452C-B0DB-43D3CF84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A6BFAA1-1A2D-46C3-A238-E99CFDF9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156C70D-68C7-4745-9954-4D46271B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3D66C17-FF9B-4B8C-BD29-BA2DA555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CD38D03-8D73-4C5E-98C5-373587A1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5BCC5-0184-495D-B193-2EC9CF64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9D8094B-98A8-4F76-BE69-2FC4E7EB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4D197C8-90C2-4A53-AC97-4ECF492B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F81C58B-61CB-46D9-B809-99C0C282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A026167-B0BC-45BD-B2CB-615B5E27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A386100-CA93-4DE0-AEE8-F66800F0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0586080-6936-402A-8CBF-C90D1DEA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F6F86BB-6A30-49F3-A5EB-8C8C978F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D9A5511-BE5E-4C3E-860C-7A8353EA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200A008-3C92-4515-9B7B-EF3BEEF1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EFB9E6F-B451-428F-A14B-BB5934AA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99D6E-C5B9-43DB-B204-2A1815FE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B444A88-9671-4E34-82B4-34E773F0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05BA656-3EC2-4EE4-93EE-A4D1ED92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8AAAE33-A4E1-4757-97A6-A0F4361F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2CCBAC8-8E1D-4CA8-AE1A-04CB2B34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F475D49-D177-47B9-8818-92F5409B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9FCFF0C-D3D1-4365-8CAE-3326678E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0ECEE6C-D436-475F-BB89-F5ECEBAB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7E4C69B-0A2F-455B-8CC0-749A3FF0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4E70469-3090-48BF-AC1C-237CF5ED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254492E-21F2-4F0D-835E-D8791517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7E375-B609-4908-A9B5-7158A7F9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2A5C36A-58C2-4849-ABC9-734D23FA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552E767-7D95-4C64-A644-976450D2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9F13342-156D-454C-BC90-98036EF8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D223B6F-D6F1-4ECE-A988-EA332532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9BFBB1C-B1E7-4821-A8A0-09C11FFE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7D75C16-6270-4CA2-A131-7A494EE7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E5459AC-8713-4D87-AB04-EF9A1226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F71210D-4F8D-44A3-B4DD-F304E2E8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68FC867-21D5-49C4-A7D5-58B0FF90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49A2300-46F0-4460-92A1-A2CA8F2C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D9FEF-19BB-4112-A381-71138275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BD25C28-2FE2-4FEA-A03A-C5EC94C1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E2C3A3C-B82B-42E3-B55B-D5CA07EB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7244FE5-9554-4A70-8163-F74F0738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2DF7A1A-5038-43E2-ADC1-F67BE809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B174BE7-AD4B-473A-BFB3-A9083408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151876E-D0DB-499C-A9BD-617E1CBB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7B35227-AE47-4A68-860E-16A86B72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84DDF93-7EC9-48E2-9D25-22FC348F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75B177E-4603-45A2-8A46-7B4285E5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DE461FE-D32D-40C7-A4EA-C1F7CF82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AF6EE-AA9A-4EAC-A71A-20F44FFA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DFB0CC0-1B49-4C20-BB4F-104CB938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D0CAE4C-F268-4E80-9501-83ACAEA3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362219A-99B7-44AE-BD7F-1DBC707A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CC5A525-21F1-4A0C-B82A-2D1D972D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DAE24FA-DBCE-4B78-A963-026B3811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DFD061E-B5ED-42D0-A804-498363B7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DEEE9D2-0083-4666-BE0D-5C969B5E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1646BE2-6B16-4FA3-971D-AB9AFF13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0D04586-54B5-4C95-BD8F-1ABBFDB9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25E5C9D-7DAA-425B-B47B-8C399603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8B451-C933-4B10-A96D-6D2A50F9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49C3D1F-4F06-41DB-86A1-C8B2B3DD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46DF8C7-152F-4A2E-9C82-6DC788E5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4851B26-102A-4A06-A10B-F76A1930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BD09B48-8428-4BBA-A9C3-35F0AD2E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DDFA64E-2461-4B00-90CB-0D420955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07BD43D-D99D-4490-87B4-8DA60AE0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703503D-50D2-4682-BF4D-03769C8C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6CA2BB3-D516-462D-BA91-991777E1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D99329B-17CB-47C0-AD0D-AE872561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63D81A7-6134-4894-A0DB-309BF447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CDAD1-0676-42D6-BA1D-18196EA9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539F17D-1829-4D29-BF0F-BA15586F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96273D2-3BA1-416F-AEF1-8E13598A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66CC053-1E27-45C8-BDE0-CB2D3620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A7F3A85-F040-46F5-9C30-CA53C71A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143B133-FEB6-4C5A-B031-7DA98EB8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A8B4038-8BCF-4201-9F33-CF103299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2FA603F-1B85-4A7F-B600-37CA8DB1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A81250C-49AC-4985-A13A-4DA1B4F2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285BF67-A1C5-4336-B3A0-42041847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7A135F4-4C30-4EB8-819A-0DC1CA8C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B1F-8B94-47C9-AA5F-9A525DA4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F1D5E-3802-4565-BAC5-A155D150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204E41B-9EAE-430E-AD38-094AE8F6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72E47FF-0BFB-4F6A-B630-EA3E1F0D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4CAA2BD-E4BA-4691-9BD4-C85E9BB7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21A3DD4-72BF-4016-85A4-B6835619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E363569-3381-47E0-AC18-546F1487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8650E89-6BC4-491A-A2BB-75A3AA02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A6A6BF3-3379-4B3B-AD21-9742E0A2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97DFFBF-4BA4-4415-AA79-B0A3CEFF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1982705-D172-49B0-8A7F-334DEA26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BFE5009-4ECE-4D0D-8229-556B3B91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3C185-6383-4455-A249-278A427E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8DB0C5C-CB9D-4E55-A11A-FC9CBD07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C881532-2812-4D5C-AE6C-BE249434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7AA2538-39A3-4D05-AD14-C85403A8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8DD7BE3-E841-4350-90C4-BEF1BB03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547E2A0-08A7-4A4D-BD59-EC55CCE2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1629807-4B32-44D7-9432-9016FB64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9820DA8-005F-4104-9D72-BD216687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756D347-ECC5-4728-8B80-CBB6A573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CB1E93A-C56F-4696-828C-0EDF3A81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59E9448-2DE2-4F78-AD79-234323E9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AA5D8-351C-482F-A948-D3C7A844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E92E229-009B-44E5-A032-1DD58955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3E49F50-67C4-4426-A593-A8BCAA29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D566807-CCF3-4D6A-8AC9-8CB5BFA2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00496F1-3797-4004-BBA4-70BB2DC0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8B89DB2-E97C-4810-98EB-C4AFA1DF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985A6A2-BDC3-4564-8623-A790553F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03CE612-8F1B-4164-B9C2-C897AC4F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09DAEF6-C7BD-426D-8377-3183A95A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B88FC62-63CB-42D2-98FA-D03B0AB6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5D7CC94-A3B2-48F6-A70E-DA870FAC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C6791-82E6-4A7A-A644-0503F1AE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C3F9070-01FB-4670-89E2-14222323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E37BF6D-EAB9-4943-888C-6930B027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4C19083-152F-4784-95AF-B746EDF5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238CBD2-2044-4692-8602-10514AA8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3D7B08C-EB6A-4F65-93EF-3DCBF306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155A2E1-B31E-4C6A-A510-4BCE945B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BD2F955-7352-44DA-980F-226D33C2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F4C2670-E27D-4B87-8679-B79C1F3E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B650784-D7E8-47D8-9D70-A3EC5FAD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26A4722-9D08-42CA-BFF6-C8CEBA54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65BD3-E182-4D8F-B1B3-9E2FAFAB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3249421-C2D0-4920-A7C3-463946CC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711D40D-FFB3-46F6-B779-B102F108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319D0E9-B29B-424A-BED0-C9AC20A9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62116F4-FE17-4A02-8A42-EF9401D6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517F589-D585-43DA-BEA9-156248C8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576E14C-FA8B-46B4-99A9-382CE893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2294148-B698-4CE4-9E60-0D8BBCDC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33C04FB-3A7C-461D-BBBB-80EC65DB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7D8EDA6-9E1A-49C3-9F71-491826E4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806CBA7-9FDE-4D59-873B-9C51D36B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7CD90-3B02-48B8-A6DF-E551DCA5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B480402-5DD1-47A2-8A08-CACE0DD3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0697FF7-4E3B-436D-9663-4262FEC8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7247BCF-2C77-4180-92BF-C0B60BD1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C92BB28-0699-4BD4-AAE1-A3F038E0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652AF86-60EB-4D75-9F2B-1B6C0A44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1AB2D3A-40F9-4A86-8276-1676B58B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8F51729-FC69-49FB-AA71-D4F3D5AE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793B235-3593-4FE4-8651-F4D22A10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5905FD0-983D-412F-878C-129409A3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9BC52AA-99E7-4BB5-846B-DE741C24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F5A44-63C6-4D91-BFD4-92AF4AFC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7DEF14E-A703-4579-B1E5-39194449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D42498D-AB59-4846-A725-E485E0CE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85AC256-357B-4B5C-B8B9-0DD1D735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31DE7D5-47F5-4D3F-817A-5A78D5B8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4A77283-961D-4EF5-ACF9-99F8DA4A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456C641-0882-4AB5-881D-5E84DD2B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A4CA281-90FD-46BC-BB25-0F7C0991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879F50F-BE55-4AEC-8703-73E55570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B3378FE-E50A-4A76-9787-86812430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4F3C7CD-EDD0-4B4D-A912-58531EAC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24242-B391-4828-A0A7-583C2F3D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4BB7A58-8844-4E02-8F2A-6C799534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3FDE354-D311-4648-889B-9F2D38A3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510AB43-1647-49B1-969C-791F3C08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18B33CD-1DCE-4285-800C-3625D37E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BDFEAC8-54E4-438C-9561-93686ED1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E1132B7-2BC5-4C25-ADCA-B92DD461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187C97A-F6DE-4E2F-B3A4-19EE6205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41A2AEE-DAB0-4CBF-B80B-14B03722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82B9BF6-E781-4099-95AF-5A181876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E048490-64B1-4215-B315-69FA1E56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E329D-86CF-4035-8407-F7C28C88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8A365D3-12AF-4D03-9526-CE8B6E9E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F5B2EC3-16E5-4106-B40F-0DA6FB28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CAD69B1-FB8A-48A0-AAC3-0CB2913F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AFA97D6-A206-434D-A108-A5E6DF97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58AA906-673E-4B2A-B511-D50AAF21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DDEAF63-E5C5-496B-A408-04DCC638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7954554-F15F-413B-A622-D6DA4E67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899B7D8-B424-43C9-A780-F8E7ADB7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4ECC476-9717-4865-93C4-05724B81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F735CB2-0F86-4422-BE22-19BC03BB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7924D-3418-49EB-960B-473173F4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E2C31F8-1AE7-48F6-8798-D82C7857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353208A-B97D-490B-8511-A8D7C126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189338C-81CA-4002-9517-255163AF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6174BCC-5EF1-47AB-A087-E37CB0E1F809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C993AE4-51D3-4B82-94B0-7B03A7843816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EF76A61-2ECA-4565-B417-6AF35DCAD905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3AD829A-5975-40BC-AD8F-542AD6CF316E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607FCC3-944E-421D-AA6E-782C09283ACC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DD2DE2B-B173-4ABC-94E8-9E2D5CD91BCE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2DF4D10-2973-423E-856B-96D4D317E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FBE-D9A0-4E83-B7CE-B4438E08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2002E-F778-46DC-8DC9-C8A86E2C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D417EEC-FC6F-4048-B930-09F3E8D9F645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E47E5FF-E0E1-4D22-9141-46A2272559DC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FE9A149-4585-406B-B649-AC25941DD876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1EA1A0A-EC2D-4644-8A19-2CC784E034E8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D507C28-BF6A-4677-81C9-9EF64A74E05B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C60FDA8-3C3B-4705-A12D-E4991010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D9E7020-18E5-4B11-ABB1-165AFDAA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88C5BBA-80AC-4FCB-8B8E-4BFDA133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8D73E9B-16AB-4624-8A71-2CB9D4E0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C3982C0-4FC7-470F-9221-C01740AE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63FE8-4123-4D63-A416-41A83978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23C53B3-C85E-43DE-AA6A-915ECEB7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34CED6F-0C48-413D-8350-EDCE37B0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97E3D29-A472-4DAC-8137-D6E3CBC4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D17331B-E883-45DE-84CA-31BF7D86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29C807D-5276-4425-A5D5-8EA7F606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A577603-C67D-474A-B112-ADCD7F91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41BF2F7-0C31-4343-ABFC-5E070689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A99DF34-7A07-4A4A-BACD-53BDED7E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A51D787-E4B7-497C-948F-E923D3CF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2D7FA69-FC89-47A8-BF26-DD52E92A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C02B8-DA0B-4820-8EE7-52D8C1EB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8CF72AF-B6E2-4823-9F7B-9685D17F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7501EC5-E1D1-4B27-A6D2-FA68E46D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C9FF0DE-5247-432C-8262-BCD56271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415E08B-8397-4420-87DA-AE019EF6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CEAB65C-23EB-4B01-A9D9-39364B80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C4E476D-0C33-4B9A-A09C-EE6F8EA1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BDA5A7B-997A-404B-A4B0-B8953A85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3DEBC55-E7F0-4100-9EC8-176EA810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F49FA70-B532-4E04-894D-A468C5A1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0FEC1CF-B4F2-42E0-B5D1-C4A1148E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FF197-6A41-4889-B6B8-E417BC34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8433E60-98C2-4129-B502-8337E3F8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DE728D5-3390-4B1D-8B49-DFE85DE5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860F351-0EDB-4FF9-B881-B13F983F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140F0C0-EFE4-4AA6-ACAB-4097956B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03FAFCC-4B32-4357-8E0E-0E39A817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E2170BE-F1D4-4ED7-8081-FCB896E9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179E30D-A93E-400A-9734-D2A224E5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B359D5E-0E36-4170-A381-F2A09FD0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27D3BAF-585D-4319-BB06-6B144C44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1EEECBC-96E0-4912-9742-53F38718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C3062-D4DF-42DA-910E-F1821197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0BF833A-942B-4A73-9D83-009FC3D6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3C6721E-513E-45D4-9A36-42625A52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6F95971-DDFF-4EE0-BC8B-6F97B5AF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2A659BD-CDC1-4B88-9BAF-BBFE530A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24B308A-CDB6-4013-8EF2-E39412FB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4D08082-F207-46CE-A44B-50553FB9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7647E57-9872-48FC-9C03-E559161A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5AA2A21-65DE-414F-A315-85A84A71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0D30A47-F256-45A6-AF7C-5AC37806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04E2EE0-814C-44D2-9CBF-5050DD56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8CC23-B481-418C-9FB9-E1789D61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4400A4F5-7862-42D1-BDCD-5809F6D4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0FAE80C-E685-46D5-BF01-ECAA09E1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3090F70-4CC4-405C-A6C9-32D7FC4C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07191D0-3B83-45F8-8539-97E7EF93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97B7B9F-791E-4A8D-809A-1E34B615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32B06D0-51EB-4A88-82C8-DB04F472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FC32BB3-37FD-498D-9B49-5D018064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DFB773A9-0D71-43C4-8EBB-F14F646E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71B6D2E-0DB7-41B0-9467-0FA17B31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74D6F47D-D433-4A1E-976B-FEE0BF7B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3BE4B-1F1E-4608-B4C1-39220A06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6E59AAF-CA73-4205-B7BC-2B2416EA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FF000BF-DB5A-40EC-8480-A99478D4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D51D1B4-F82E-4CBD-91DC-8FE54744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B69DC91-E2D2-4406-9B08-00E0A4A9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68E8551-1B21-4924-A5F5-5C658437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D020262-0D9F-49A5-9437-75EA5603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40CAA585-1862-43D1-B8D9-4687BC58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1CF1A83-C2B9-48DF-8017-99BB5BC3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86034B4-7559-4393-A0ED-E87259B3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2C1944D-6E75-47B4-A7E0-4A2799F7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2CA57-1B86-481B-AEE7-4B275886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CA2CC9F-EE3C-40B1-8798-917990FD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F37A23E-AD68-4939-8D5E-24901407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8872E33-4857-45A2-807A-FDBA73E6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C061E24-A206-48F1-8A55-2855735C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1F88A70-307B-4CE5-8DC1-5F1866A6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5CE5004-18E9-4653-8B5B-5EDBD81B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23E8569-A07B-46A1-A921-B27B1A3D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03255771-BC43-4933-87BF-B7B5F2F7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F056D8A-4223-4054-89C9-36F663E8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F9EC8DD-CD37-4FFE-8FEF-A06CFAB0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839EE-1268-4F59-960D-555758CC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83A4D09-B62C-425D-B58B-479527D8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0C4E6B59-1A2F-4DE0-A06A-A1EC9DFF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18D1D3F4-B9E1-48B2-9282-E0F8D3F1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08B643D-072C-48EE-AE7B-D6C90C65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F161843F-7251-4AFD-BDBB-CEC5B319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8C88487-29E0-4130-BE26-47BE6262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F0667A38-39B1-4299-8144-FBA44596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13093A5B-EC09-494F-B9A5-DCAF6587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5115B9A-C398-4706-A985-43AE7F4F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BC72492-1D5D-4565-ABD5-DCBD43F3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CF980-B5A0-4D75-A37D-311E0A37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FB59E75-415F-4AEA-A8D9-3FA996CA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CB2C02C-3046-42D4-B02D-C87E4368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A208390-411C-44D3-AFCD-311505C4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353910D-E0EA-45FA-9777-BF2875E0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C8E79EE-A6E6-41F8-9DCB-C6D883C9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7B1216C-A39E-4C1D-9090-C1022074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4E1ECD8-1646-47DE-85C7-194830CB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0B8353A-687D-400E-B548-44700686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D5608B2-2A61-4C37-A0A2-070F0542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7B30892-2C33-4E94-A6B6-950CE728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D8D-3636-4E04-9547-74C50735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FEE8D-9EF6-4531-937F-40BA01D1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833FAF5-E8EA-4BE8-A375-07DDA1B9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5E8E9A3-3120-4030-AC0B-368BF560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07B7E7DC-92F3-44ED-8D04-E3F03D77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77EC058-A1A3-4DAB-9625-7969D108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1A290B88-D8C1-4294-A7DA-BD85DFF8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2A1579C-336B-477A-8E83-67E7206D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E63D86A-D417-4B35-A445-5E8CF537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7685DC7-4FB0-42AC-8C58-BEEFA547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30644602-C318-47B8-BA41-77AE1F8C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26C7E02-EA01-4C0D-B205-3F84E163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F1770-56AB-42AD-8273-DDB5D04F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1C58C50-6573-4CB9-8D15-7FF39234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5CDB156-5610-4B79-8DBF-F7340484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A88A0E4D-EDDD-410D-9823-AAA37412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94599F7-69C8-48CD-8BE1-7658F2B4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28FE151-AC30-4BCA-A7BD-137732F9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2BE3227-2784-49AC-A541-E3B97A0A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78F0356-D2C5-46F5-A01F-68224931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A40B2FB-7E79-4975-8E4A-9A1CD7A2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2462A01-F38E-4010-A93B-4A5808F8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053AF5F-84CC-4954-B131-75B74850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6F18A-B13A-47FE-8370-56F1D11D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D0E1C30-B1CC-4CF5-8243-6900FD44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DE8C111-6253-4C4F-9E23-8397E471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F37E210-FBC5-4646-A95C-66770B84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B1EB9AD-127E-4A42-B47A-20A4E32D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10D3481-3E01-45E8-AAD5-97727333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9296FB4-FFB4-47CF-BD55-6E2B012E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B3B0AC9D-B770-4028-92DD-B592CF55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71E0DCD-5700-4F61-8F27-031D3856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F1A0424-17F7-4348-ABE4-2B0DBCC8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44251B2-DC04-4272-81BF-C9AA5BDA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54CC8-AA65-4219-AA88-941571F5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E05DEFF-EE91-4022-9143-3EC7DE76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C1AC0DC-6D78-4E3B-B587-CEDB085B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965582F-CB62-47F7-B42C-5D1D582F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84AD897-AB5E-475F-8F48-D83DCBC8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7628C06-780D-4C61-A236-DA8ACCBD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173B2CD-D5A9-4381-B01B-55B67F26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B57A136-E65D-4CD0-8557-1D52D916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375AD49-6C25-479B-BDCD-C958B16B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6013A9D-B335-4473-AE58-FB734DB6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4F93928-5ACD-4805-BF39-D83F2B31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686A2-5ED2-4938-B790-32ACC788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22702E5-C764-49B0-9E62-1AB36E02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E749D2C-F4E4-4C62-BDB5-D4BE97A8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F251212-6847-412A-92C9-AB7C134F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EC621CC-9F63-4E96-A726-55C4A2BE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622DB8A-BB52-44D4-9FC8-E1D9DAF1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9BE9D2A-E534-4AA4-BEF3-DB9B1E8C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791F1A0-7898-48F6-84E1-271D0402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2E06BB9-1CF8-4804-98CA-03E62144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286EEB8-8652-42E9-B1C0-18DEEBA4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FE2AA1E8-545E-44B7-BA48-6CB21672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714D6-2BE4-4989-95C6-4E6A6E88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378D3F4-D231-4E71-AAF4-ABDBC54B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206E859-7D5A-4FEC-BCAE-6E7E1BC0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8E6F8A4-C74F-4839-9D21-E1191FE1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3AD1333-7A9E-4EDD-98C1-A4DD1035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3C05DAA-A6D7-4E81-ABDA-48BF43AE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00997BC-1A68-4B91-B83A-7CB07891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AE3F45F-8E64-4513-90A8-5944E528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D1AE26A-EF8E-4DEE-82B3-18C755E4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99F9526-B3C2-4164-97D0-95D82454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50748EA-41AA-4518-A91A-DC77D1DF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D8D53-26E5-4D97-8AA6-196DEF53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2893EA5-E897-4A87-86B7-E0A3A594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96021C8-48F7-4EBB-95B4-AB02627B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1F84AFA-917B-45F0-B6B3-47E20C48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DDD8E11-42BF-4AE3-8D5D-82D8F6E3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37D1D71-D51A-4B68-B0EE-FD20BA67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15F535C-344A-440F-8153-483FFF01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DBB7399-2248-4561-BA61-A2B437B7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092CE06-E1C2-4CD0-99A1-A664091D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8E23CCC-7C19-4709-A529-AA089C9D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2A2EE15-E1B2-4F29-8573-D6F2B77E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76F0C-6378-477E-88B3-F751A74D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FA505AC6-A099-45E9-9FDF-83E1A3FC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E29B68F-275F-4160-93E6-440559CD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F8D89C4-99C7-4E9D-BB38-28FCEBFD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2267C95-7354-4E25-B286-DF11ADB9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2963F54-9CB2-44EC-A17E-C9CE1CA7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26B06D3-50AA-47F4-AED0-1B62FD27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98DE785-3A4F-4E40-A80B-F93FACC1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A8A4208-4C4B-4BD1-9ECB-AA2BF84E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A045929-3473-4C77-9E94-AB7CFDB1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5295E3A-541E-427C-8BFD-D79F9504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51AD1-3E42-432D-99E1-8A7AC546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16A857FE-5223-4679-AE58-96DF7957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37AC85B-B20E-4EBD-8AA4-3AE3D4A1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F9FA37A-2EE7-42F6-B7AA-066A0613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2AB4BD9-34A3-49A9-BC29-1F07AA5A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31BB267-2ED0-4AF0-B568-63A0D769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FCFA5CF-62D3-4845-84DA-8261B46F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048C3C9-CD38-4099-AAE2-D10D66C2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AE029534-A758-488B-9E1B-F48512A8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7A13FAF-3842-4E8F-91FD-B40B0F92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A524C546-35AD-4DAD-A2F8-28C0B6B8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3529C-EDB0-4AD1-8381-F0A43510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C0758FB-7914-438F-869F-AA5BFFEE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9EE1147-9825-4E68-A4BD-25CBE210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FF9692A-5284-45F0-A1FC-34F8D303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F82C712-90A3-4D2B-A509-0345AFBE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A8445C1C-684F-4D2A-8B7D-26C05D42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C6DB368-1E73-4AB9-93FE-7F787CD0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081812D-210C-4D7F-A415-C439D5E9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B505E215-7BD5-41E3-A610-22FBCB8C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81FF4E68-B1CE-49B3-8F3D-2F67FE5F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9A72DAEC-2AA7-4075-AB9B-A254C023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A08-7089-4A8A-8289-8A8A09B8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5CA16-9660-480D-BBC2-42ECB8F9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868803F7-6E3F-4572-9041-9EFAEFB2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DFCE4980-B71C-42AA-8FC5-7B7C4CA8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260900E2-1318-458F-ACA0-8BF0A37B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EAC0E88-4D27-4DCB-A3D5-EE6EC1CF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E0D048F3-F0CE-4C92-A07D-6E80591D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0863DF91-6E89-42D7-8E79-FEEAD990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74C2F8C3-244F-483D-A937-3863E50B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7A2EF7E6-69A7-4C50-BBD2-DCEB4464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BEF12634-8AF3-4AD2-B880-31085A9C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885C2CE-1DE0-43D8-BED0-F6CAD751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650D1-9B8C-4C22-ABBF-68FCF864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975486F-4F91-48CF-9F5B-38603FC3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1B1EAB0-FF89-4C6B-B2AB-98B408B0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7D66B7E-CBEA-456A-8198-8FEFC53A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35ADAAC-B963-4627-8C2D-4C675560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6F4B370-F4EB-4556-BD5B-440E8A6B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F975ABE-6685-4F09-96A7-E390DA0B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2A1AD12-7A61-45AF-AF4E-5E034EF6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6F66C70-686A-4705-BCC8-9E193676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A243B9E-C994-4A45-B4CC-FAE41AF7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2265600-482C-4DDC-B1AA-5F332DBC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1470D-1442-4236-94DA-465D77C0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02F3ED8-7ED3-41C8-827E-87BBE810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7A10A1E-5CE9-4C0A-85F4-177087F0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C31169B-C21C-4105-A1CB-9062645D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AE9D454-0837-4767-A144-0CA1D957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EDEBCB6-C9B8-426E-9334-756674C3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ACA18EA-2F54-4E9E-8906-599AB337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D7E7469-2878-4E9A-8689-B8CAB067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5FC9F3F-A5CF-4125-A26D-8DDBB0C1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1C3FC1D-4EA1-41EC-89CE-5F2133DF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F0A6CBB-04C7-42CA-AA6C-ACB99BF1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CD41B-08F5-40D7-88F3-9DDF55D7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4DE89F5-34F7-4FAD-9EE5-0FB37463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FF2B11EF-B74B-4382-BD35-FCD153A1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0D1DAFB-82B1-411E-83DF-C496DE3A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96B01B5-6A15-4650-B457-1EA0D981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0A49102-3E84-49D7-9B0E-6BB693E7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EC93E4E-7727-42FD-AC42-DCCFAE8A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2931E15-9C12-4E5E-8A20-76DDA430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4CB62D3-FA3E-4EE0-A07E-A35B6C11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B857CB4D-4FBC-4CBC-824D-99984D27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2DC79B2-485C-42C8-B94C-56B3B85E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B2DEC-1FCF-4C64-B232-54F4A1F6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DF61781-B550-4460-BD49-EB9CF6CE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2E9F210-219E-4D75-A3E4-2ABD8651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F6AA705-94D9-42E3-BAAF-B61F761F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1AC0A29-6FF3-4C9C-9451-14C5ADC3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E5B9559-5C9B-47F0-98D6-2AA91A2E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BD7DF56-A8BE-48AA-9FBB-7FECE9D5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B0C28B3-4511-45CD-93DC-19044699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A3DAAF2-9095-4FF4-A51B-7C2993DA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8E17FE9-648C-4EF7-93C5-99059168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F7CBF47-92B0-48C7-A5AD-45A7D3D8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BAB1A-846F-4C6B-BD9A-1D0E21D9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B58D067-4284-4AD3-A1F7-BAB24996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DA23F31-C01C-4E1F-9963-673B91A8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4AC3B18-5E5E-4ADF-B31D-4C294C06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8538D3C-E860-486F-B57F-3BB7C539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3E702D6-E749-45AA-8AD4-561DB199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B5B3B3E7-4C0B-4DC4-A6FA-3D423348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034EEB9-54E0-490B-9F08-B3148F10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263C136-F477-4A66-BB35-1563A1B8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1662986-AFCE-4B3E-9A07-F0A38EB8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3D7B2EA-8CE9-4CFD-AABD-52DA78D5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75432-0BD3-44D0-BAAC-9BD71867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5FCEF6B-867F-476E-9D05-FEAC5B15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E6D65E9-1799-449D-A538-F1AC3AD1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1651239-4A5A-4A48-A958-1F8A5C79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FFA6FDD-E76A-4A2E-8FF1-5BABA31A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EC5401D-6E96-4693-8C8D-22CFDCF3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CCF8FDE-17EF-4EEF-B1DD-3BE07A69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360C95A-E3AC-49CE-A3AB-6A57307F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7AFF8D6-73B1-42C0-BFC0-65F21075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4046C8D-D6C3-4F98-95FE-E3301975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A45E303-E37D-446F-B371-B62EE46EDE6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1056A-D959-4EFA-81F8-A96FB0FD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23642D1F-ADC2-4CB3-A80C-FAF772C78F52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C30AD2F-7CDF-473A-B6A9-F02E2ACE12C7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ECD78CAF-36FC-47C5-B3CF-FFC812201F91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67EEFFB-5B2E-4E5C-8954-DBA22A7C7A53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81627BD-64C1-4A2E-95FE-433352181B22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0960F2C2-61D4-448A-948C-798FC1C0D930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49918EF-C731-493E-90A1-7AC7390CC6B5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07D8A166-471C-4F25-8760-437B3341AFDF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BDA8560C-2B57-486F-A794-0876F0D01D81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218154A9-F282-43AA-AB37-A834FA81EEE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ABCCC-114C-4728-AC5C-0E232A24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D3474429-DE10-493E-A5B5-F44D86AB7711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69E2835-61E4-4DC8-A769-57220559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C21B620-B3A6-43FC-ABC6-350B809C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772F3B0-62DC-4167-9275-0111D8A0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81AB04C-7FE8-4F6E-9B59-BFDE315F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ED0F654-69D3-46C2-94AA-2CC128BA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56A648F-F1A7-4F7A-ADE4-36EDC8A4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7077657-F2E6-4B28-9171-74124B02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0E381DE-A022-4554-9DE3-EE79A3CE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D5E928D-E50E-424D-B176-E475130E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6D5E7-5581-4ED8-A391-3CC09EFA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48C577C-847B-4BD8-B1D3-B5AA40E7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0A63AA1-03BD-4A6A-B661-F34AEAB9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3231376-A40E-432E-830E-EB924BD9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297E289-C7B2-4DE3-B01C-9151FEA0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2F8407A-D425-4D82-BFFB-F7144FF2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18E0D2F-06E5-4993-89DA-8E7380C6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7548509-70B6-4679-A288-AEC84C16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7CD6289-3289-426E-94C9-5338421B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7514D15-67FB-4425-84B2-876F6F3F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27A1953-E6C4-41D1-8B21-DA266E84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5A1-3952-4E48-9450-8BB694F0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AA522-6A68-499D-B4FC-92DA7873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CF6DE77-2FE3-42CE-8F87-05D996AA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8123567-9843-4238-94C7-C2A8EF1B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D837298-4F19-407B-9736-8CE9E815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0EA754B-21AF-42E4-9B58-7832F56B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B3DE25C-6FF3-4BD6-809B-2D0069DE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E550722-0A16-42B2-8A3B-703A9083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F6E9A44-7A31-4AA7-A61D-6B0A6F79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A911AFD-4B89-43A8-910A-4919526B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0C46BB9-EF45-40CF-84F9-E8813EF6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1529802-73CB-430A-AC8C-E857349C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A707D-42D5-4399-A564-9405C644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1BE1F5B-A3D6-47EA-86F2-D097C0DB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E6F2B54-447C-402B-BEF9-44BD87F4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B402E68-5369-4D9F-B742-73F128B4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4F7801E-6EB6-435F-995A-6E0D07A0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0664CA8-06E3-463B-947B-10E29DDC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C76BD1B-3F6E-4842-85EE-9B3BDA07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8254DC3-D895-477A-BE26-517DC4EC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8A420EC-EC4E-4914-BB50-C251622A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8FCB25B-30EE-4950-AEFB-D450C89B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79EBA54-48A0-42C3-AEB2-B995BDB8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2C641-35C2-4A3D-821A-A97B5CE8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B4172E3-EF11-4C25-88F6-0DD34A31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A774692-0CE9-424E-BF4A-E635F0A6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15643A9-E585-4001-B010-17E44F48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C5E48C1-6D1B-46D9-9ADE-AB266CEE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26604B4-A854-4E17-9319-F6F969B0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7B9F1F6-B0BA-4972-BFCF-80D0FCF8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315D56C-6DB7-4713-A7BA-7D5B3A37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701ED83-885C-4740-B86D-4F5E8A61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975C5FF-9E97-49E6-B2A8-A5E41EBA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B032A39-5F15-484E-A13D-F6B86CB7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6DD56-3FDE-4662-B3D8-0E9AEDF5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138C8DB-05B1-4AC0-BFB6-FE6FCF63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2FA85A2-D097-4F3D-97A7-8D3317A4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902B32E-2B13-4879-B391-D1F1631F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B975580-33E7-404F-99EF-F8D1E71E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A46D8E7-C93E-44BE-99BA-B2B5C714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F046383-32CA-435F-BC52-0A740387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F557B37-1B9E-4F09-BDE4-177AE5DC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C524BF2-D22B-41DF-88D9-AA9043F6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9C4A75A-84A5-4054-9D5A-5B513191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B58765F-D7BB-4257-A920-7F0BE68B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3595F-E776-4E06-A41A-3BAD3BB0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B1F77E3-786A-4244-9031-B05E396F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4EA218F-021F-4F0D-B60B-ED746EE7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80599A0-08EF-4A75-9976-3F682902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0C1F767-427E-4086-9FA3-7F93273B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629B403-945E-4EEB-8426-CC1BB82F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7B1A564-D439-4527-A023-A16412E5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00C130A-C485-4A36-81ED-210A4340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576615E-E36F-4FAB-B248-3298D151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8DA8879-AE4F-4C74-8D7A-CDB5A4B2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C41CE81-D1B3-4585-BB07-608B9144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BF927-AFD0-432A-A521-A37703A9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B01B9AE-1ABF-430F-9511-D942A91D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32C2C76-BC1B-421E-AC22-520A83A5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C52217D-237B-4E6B-81AD-71936AF1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1E3701A-D712-432F-9A73-275AA2F2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9E0CF96-FCCA-46EA-9F8F-4D2CD9C4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A0F7548-0CFF-4556-903D-1F512910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CC72696-9004-4BF3-B65A-FF2DE3AB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48AD699-50FA-4A54-920B-B3C20761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AD707ED-33D3-4F40-8FD5-D5BB488D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CD9424F-61D8-4803-84AA-91A6E46B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9E947-089E-4AB9-916C-78E327DD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0266A6B-41BE-4D73-9028-7715D9EE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5076177-B8F9-4D75-A17D-F80FC5A0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56A72CE-49A7-4135-A74D-43AC9631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12DBAC7-7200-4B0F-954C-CD35304B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E630F76-0458-460F-A34F-E95902D8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9924E42-6520-42B2-8904-AA81AAE3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2BC3B6C-3A81-4489-97D4-0F7CD5DE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08F835B-3439-4E0B-B1E2-ED5DDAF4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E5D0B8E-76C0-4AC2-894B-3D31C723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D02A603-298B-4312-A3D8-9A9E8986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6A01F-F0BC-4631-B359-D9DC82EB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994B828-4E9C-46BC-AF2F-20D7E540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2368B4D-858A-4EB5-907C-20890EDE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9E6E5A0-EB32-4BC9-AC05-30EA438C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2F3E6B6-3899-49F9-8701-FFAEABC6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A42B8B1-BAD9-4C3B-B9E7-CB526519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EFDB729-1612-4874-87F6-0C014446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DDDDD43-79B6-4B70-B4D7-BAD9FE44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F05D8B1-C314-4516-A223-C4D3DBB9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AB310DA-F634-4DF0-8B10-E454B252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C3DCF34-0DF1-48E0-AB7B-7363C20E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00090-55B7-4620-A53F-DCCDF64E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A77B2D5-05A4-4CF8-BCC4-FDDDB761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B4245DE-7280-42D3-A96B-E3702E5B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932F908-C4B2-4582-9007-72A568FB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F36B0B5-78C9-4F54-87EB-4FB5F960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BFC64B7-AC9F-4C64-9D35-F4055053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5D0F0C7-332D-47BF-832F-E5323595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0996BEB-5421-4C2C-929C-3C5EA25B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5293A52-022E-4644-AA2C-BF364855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ABD93E0-2E3B-45FF-9850-DB1A86C2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39C22B5-6C91-408B-8EA1-55F72BA2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30714-429F-47E5-B178-44BB403A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7B8DBC7-2C2F-410B-99F2-813668BD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18EFF55-BAC7-400F-B818-9EF5AB77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28D9365-5500-4565-9066-D9CB05AA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E738872-A521-4165-A161-54E1855E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7C06975-A983-4729-AE8F-40FB9774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0BE908A-3751-43B5-9661-55A07943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AA218B0-DA1C-4CF4-927D-99B92BB8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614EE80-C839-4BB5-BA31-D55BDF96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22E2DDA-3083-43F1-A4BC-D042D6A5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347725E-01D6-4BC8-8004-E3B66F28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958-00A3-45FB-9810-AEBC5222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3489B-1C2B-4314-90DF-33E4005E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B6A3901-7943-4DC5-86F0-1DCDBE8D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A233275-1B01-4783-A74D-B40D1057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B9FB09C-BE4A-4734-96A2-A9E40408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392F29F-5520-4E3C-B0EA-44D853CB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1C89A6E-F34D-48D5-844E-3D61A8C2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9C761B7-1401-4771-925D-F0393A6F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AF9E92D-43B5-46DC-8527-A6BAC48F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AD58FD5-7993-4D0C-BF78-BD526CCD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80120CF-9BA0-4263-9712-214826D8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8BEAD50-3342-40A8-B815-797AEA3C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FBB20-621B-41F9-8143-FAA126FE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A0B3F2E-7F55-423D-961B-130747D3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9C3994D-FB40-4605-A8A6-9A5DFBE3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5F18AC2-D314-4F96-8CE7-D3F0585E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6049F30-ED67-441B-A5EC-E7723440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654FB05-C035-4944-AC8F-A63AE860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82FBB1E-A4AA-44F4-8AC0-E329C5EA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2B217FF-CF06-470D-BF2E-FA0955EA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AF50086-0EDE-4983-8EC7-33485BF4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826B12F-78DE-4227-BDAD-5C90A579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933A5D2-10AC-4F12-9C62-69145276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6DBE6-B92A-49AD-9927-81EFCE47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1DBC775-0B00-4B9C-BAD7-F5AF90F9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1399386-D489-4786-B5C3-9A1AB499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9B1187A-D2A4-4F7B-ABA0-11408D09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FE6240B-F822-47FA-9366-7CF7FCFD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83DC754-D014-4E3E-815B-C8798ABC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F151740-DA1B-41CA-B596-CEC412F7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59D299E-A875-4908-9D2B-4B417CAA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E230C18-0B7B-4F20-9EF3-355F1493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DAA5603-B0EF-497F-95B7-A015B6E2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021A113-3D29-42C2-A18A-00A1730C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ABC9A-128F-40ED-85FF-81FB27A5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0F0AE6C-BAB6-4E17-B49B-030A9158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E594EA9-19B5-4C84-920F-D5D55437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885DABC-1CFC-42EC-91C6-3B262084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6BC21E3-CCDA-43B8-B596-64DF9375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C93BCBF-F7B2-4128-971B-EB7373FC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908A531-EBDD-40F1-A68C-16B99153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387C27E-AC9D-48B8-B763-A66832F8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B33216A-081E-484F-B920-6FC766BA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E8B5BCD-5BB9-42EC-AA35-CEC00BD9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4033BB1-DE3E-4523-966D-3DF25745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D1B4B-10EE-41A1-85B0-4FA6F3D7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5B30A45-265A-4E7F-92B2-1C528CE1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566BFB9-29EC-4682-9B8B-B3D5373A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6B4CCD0-259C-458E-BD2B-9FBE08A0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B25382F-4011-4763-BDC7-94833D5C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E7BCF8D-7A7B-4DD5-B91A-09597695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35323DB-E6FC-4864-8E1F-91D7C161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894E12B-0703-43F2-9BCE-4E781277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59C0C38-3CF0-4288-A6B6-C4EB2C22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8F7C779-E53C-44E6-B7B1-B21AB077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6F4D08C-7498-432D-AAAB-B17A1BF1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F9C97-FD0D-4647-AA7E-847D9563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8EFAAD5-8CB0-4557-AC97-0D7EE27C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3F78E6E-8CFF-48A0-A34C-688E53C3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68EA3C4-1F67-49AD-A8AD-7C268123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365DA18-24B2-4234-9BAF-4F3D0B7D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24C4180-CCF6-43CC-A0AC-6BD00AC2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764604C-33DA-43F9-98B2-67A9B3FA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4C2B7EE-BF6B-49F7-87D6-4F4DF72F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3A98310-64F8-4720-B8A5-AC244852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792F87B-C5E2-48CD-AE15-9E263DCF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5275CA9-20AC-4F09-A852-D1839810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B5443-3B44-4BC3-8C38-B6A1C6A2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8087612-68F1-45E3-A281-70761E16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A673127-354E-4835-BD9C-E9BE617E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BF7D449-218A-4AB3-80B9-CF213B24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AEB972B-1A2E-4240-A7C4-A34B821E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D4A74D5-8ED3-4967-8CB8-C4C55F3B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44F70E9-631E-4E38-8E86-3FC32B0A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263BF00-7F58-4EB5-9FA0-2393FD20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34FC070-BD56-47F6-93A1-1E076700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95D3189-4077-4259-8D13-85F85525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BF77B36-BBCC-4B35-A8C5-BEFC6946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D43C0-AEE5-4A5E-A6BF-168DDD2C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50A8E9F-230C-4F99-8B78-4555F33F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4A7E88F-5F09-4AC0-B609-2968318C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3A26489-2714-42FC-82DE-DCFBE6E5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E0DBACC-EA68-42E5-A189-3F83162B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069C069-C887-4B6F-8913-6752775E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25FE0ED-E517-4F94-9B13-7A579E0E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1CE41A2-DB0B-4F8B-9059-A8629111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8F419A1-FD82-43B9-9D68-E8D28A87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6668F44-BDBE-497E-BE31-66B75300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A6C8324-8F72-4907-A3D5-5DB10D50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24296-F273-416A-A40E-8C4C4D0A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9156D92-5B25-4BDA-BF09-D4C2F7C3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9B95768-98FE-49FF-97F3-9BE1E5A6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C364FC6-CF8B-4905-AC5A-2DF7B175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25F7953-B939-40C3-A6E4-CEC2CF3B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C1BA55E-ACD5-4B26-8655-DD91814C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9D9F05E-F090-4287-9415-D62F698B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EDD7BEB-0EB7-4CF8-9DDB-645DE9E2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037F551-7D90-42AF-ADE6-25D0F9C7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AEF3BCD-DBE8-4411-8823-4BA0A0F3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3C793C5-2841-41AC-B549-03B5C8B5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B5431-FE09-414B-BABF-B256E5D3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70E16E9-2675-4470-A5C8-E1B08D26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CBCC008-E913-49E6-B97E-5A1459FB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69D966F-A233-48F2-9B33-EA512712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820F86F-102D-4F5E-95D5-6268C219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0D621EF-9D7D-49A7-A8CA-AE59A9FA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71361D1-EC1E-4BD9-BAEB-5CBDEF84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078D851-7DA4-422B-9B2D-D0FF7FE2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3929DCD-EA65-4367-BA26-BD4463A7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9F5A8F8-DBA7-4696-AE3B-84A5E520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D07F7BC-1580-459F-8882-D4E6F2F8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8058-6BBB-442C-B4ED-4C59FB6D4015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261BB-2701-422E-A771-7E26505DFBE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CD883-D0AA-43F3-B42D-008C2CDB2BB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2914A-80EC-416C-A092-8213BE84114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735FA-C519-4E28-B43C-0A19E05D961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5053B-B792-4B27-B112-20A7ADC0AD1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BE7FF-599E-4CB7-95DC-2EC78A6FB73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2B983-D4E5-4BDD-B63E-CD8309BC6BE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4C4695-6362-4E2B-8AC9-FBFC36179D3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07F1A-1E90-479F-BE55-FEE84B1ADE6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4EDE-6639-49F2-8D34-16F19BBFF73E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505BB-EDB5-4F6B-BAB7-9B35CEF4D60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09AE1-AD7C-4C08-8991-F8E2EA284C7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13AC3-8CCE-4886-8B0F-1AAC3BDF50E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995D3-5414-4DFC-B645-1D8FB48046B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17EA1-7358-4AC7-B6C1-7737EC07881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BEAFAB-C077-419F-9A2B-BA6E8F15914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DB0A6B-F702-4BA1-AE5F-F525C12B2DC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F595D-E013-4796-B068-A1E1C36D105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E5AA2-6229-408B-A525-C05848111E6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E9E9C-D1BA-4558-8B83-430591BBC5E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7119-3C54-4183-9499-564D61F2DF97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46B79-8B88-4E87-A03B-526A2138572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9B040-7845-4A94-9CB1-BF70FDA86A5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8F2EF-AFC9-4F59-8919-9A9B9A386F8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03C9C-2FAB-4DC0-B4EC-1233638A4C6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16C19-1477-4ADC-85AD-EDADDE4206E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9A782-1DB6-4428-84FA-C2263EA31F4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B5A02-E9DF-43F1-8092-05FA6F0D9C0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0C347-04CC-45DA-83C4-2C8615788AC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dt" idx="1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ftr" idx="1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sldNum" idx="1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A09D6-70D3-4FE4-83A3-50C06DFE323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1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35803-34D4-4BBF-A397-E998BACEF9E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F65ED-2BA9-4CC5-931E-77AABFC8B6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 type="sldNum" idx="1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A29B0-7097-4D24-AF98-36BBE126414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sldNum" idx="1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7C426-B3CE-4513-B644-01114450BB4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7FE4B-739B-46A4-9DB3-9C42940EE3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86FEE-E3B3-41AA-8BF7-EC9348AFCE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9CAA4D-E082-41B9-9600-F6F43E308E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 type="dt" idx="1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 type="ftr" idx="1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 type="sldNum" idx="1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19392-F9E5-4D9B-8E15-3B0B65AD6A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 type="dt" idx="1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 type="ftr" idx="1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 type="sldNum" idx="1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FC67E-FDE1-47E6-AFA6-4F6D40624B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1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1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1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198F4-19FA-446F-B1F5-DEC463AF84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1FDB2-780A-4B26-9A0A-6C45856797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8DD8-99D5-41AF-BB84-810B146CFAE1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1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1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1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76272-2A10-4317-A483-0A332EDF3E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dt" idx="1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ftr" idx="1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 type="sldNum" idx="1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FBB27-0127-4C36-AC56-C902A18E20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1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297B58-3BB5-47AF-A8C6-7C43A20C8A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 type="dt" idx="1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 type="ftr" idx="1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 type="sldNum" idx="1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7B333-D43A-4722-BB40-72CD33469E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 type="dt" idx="1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 type="ftr" idx="1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 type="sldNum" idx="1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3B281-837F-4418-8F6C-5383CA35612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ftr" idx="1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sldNum" idx="1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C1E99-C2EF-466A-B6FD-5567709177A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 type="dt" idx="1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 type="ftr" idx="1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 type="sldNum" idx="1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0B34C-F0FB-4358-B55D-F4773735584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79BC0-9E7E-459C-B5C1-AD1846CF8D7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 type="dt" idx="1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 type="ftr" idx="1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 type="sldNum" idx="1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44704-5DBD-452C-9274-C372FF422D4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 type="dt" idx="1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 type="ftr" idx="1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 type="sldNum" idx="1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EA6BF3-16D9-43C3-B9D1-DCB859B5B7C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53A44-57BB-4123-B455-F03577BA169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2B8E51-017A-417F-81B8-3E125C344E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EEF57-6294-4510-9EAA-FD0AF83EDD8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32C2B-4B40-446A-8C71-21A40858500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AF9DD-262F-4BAB-ACD3-F4A2C853801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7A77D-0364-4190-BA22-6C0B678105F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1D2FD-230E-470B-B72A-A6D8EEA576C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 type="sldNum" idx="1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EE37-3E08-4B8A-B4A1-F3F20BA19BAA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A492-B193-421D-8518-5E46E495D80A}" type="slidenum">
              <a:rPr b="0" lang="en-US" sz="10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D1BC-D79C-45FD-AC28-DEC53DA9F07D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B146-0B16-46EC-9485-939005B20080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1889-68F9-40B3-9C4E-86D919AD97E7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E7F9-4818-44C5-A022-A72E35DAA9B5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9C45-0363-43AA-AB4A-30A64E0B9E9C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4042-C8E2-47F1-902F-CCC1283AA15A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71A80-4B0A-4A8E-9F00-D8CDE61AA8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C587-8163-4663-8DCF-FA0E23512F0A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B6D2-AB99-40D0-ACC8-FB192E9CE73E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BED0-E2DC-4980-AE6C-862EC56C9A75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F4CB-4470-4481-ADFA-78550DC7E755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AF94-56BD-4D7E-BBEF-7CD90AC94ECE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A234-82AB-4FFE-85D1-433A5905C20D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A18C-FEA3-4ED1-A55E-F86C36227B48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1C7E-B1EA-4AF3-A4AC-83599C5C1E3D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5B07-B913-4D25-B515-4E8200B5D74B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6351-6DF9-414E-8C4D-4849840237A2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4BB7-4EA4-4D52-8218-F91B38710348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D73E-A309-41DF-8DAE-A283FBD89BA5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0DFD-8FEE-40CA-B111-0BC920877DA3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5FB1-73E4-413A-A04D-891CCC74875E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E2FC8-AD7F-4955-B458-04917A2927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D4137-3153-4FF4-91FC-EF7D5D0681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F3F9AE-A00C-4296-8AFA-36FCC87D56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DEDC0-C974-47CE-92BF-FFE68E020D5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6F9AF-FB23-4BF5-9DC2-6A8D524EDD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AB991-3271-48CE-846D-D6E388C08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378FC-7019-4E1A-B818-727AA91B97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A60C1-C256-40CE-B5AF-540BCBF1FC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1D351-315F-400D-9203-8F0FC8CD69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950AB-7D45-4356-80AE-E6AEB2235E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D9B6D-847E-4D59-B2FA-340F84D2AA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7F16D-733A-4C8E-AFBA-7A653E83B9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74AA8-AB54-4DF0-8E80-1058BA054C2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8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37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lv/url?sa=i&amp;rct=j&amp;q=&amp;esrc=s&amp;frm=1&amp;source=images&amp;cd=&amp;cad=rja&amp;uact=8&amp;ved=0CAcQjRw&amp;url=http://www1.basket.lv/lsbl/lsbl/news/3377&amp;ei=PcgjVa6NFMmsswHS_IDYBw&amp;bvm=bv.89947451,d.bGg&amp;psig=AFQjCNEwfTVpJbmHWhTqLq4-9EerOE5Z6Q&amp;ust=142849476037143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0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0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237600" y="1152360"/>
            <a:ext cx="872676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04920" indent="0" algn="ctr"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Eiropas Sociālā fonda projekts</a:t>
            </a:r>
            <a:br>
              <a:rPr sz="2800"/>
            </a:b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«Atbalsts sociālajai uzņēmējdarbībai»</a:t>
            </a:r>
            <a:br>
              <a:rPr sz="2800"/>
            </a:br>
            <a:r>
              <a:rPr b="0" lang="lv-LV" sz="2000" spc="-1" strike="noStrike">
                <a:solidFill>
                  <a:srgbClr val="ffffff"/>
                </a:solidFill>
                <a:latin typeface="Century Gothic"/>
                <a:ea typeface="MS PGothic"/>
              </a:rPr>
              <a:t>vienošanās Nr. 9.1.1.3/15/I/001 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ffffff"/>
                </a:solidFill>
                <a:latin typeface="Century Gothic"/>
                <a:ea typeface="MS PGothic"/>
              </a:rPr>
              <a:t>Finanšu atbalsta saņemšanas nosacījumi</a:t>
            </a:r>
            <a:br>
              <a:rPr sz="2800"/>
            </a:br>
            <a:br>
              <a:rPr sz="18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 type="subTitle"/>
          </p:nvPr>
        </p:nvSpPr>
        <p:spPr>
          <a:xfrm>
            <a:off x="1069560" y="3674880"/>
            <a:ext cx="68929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80" name="Title 1"/>
          <p:cNvSpPr/>
          <p:nvPr/>
        </p:nvSpPr>
        <p:spPr>
          <a:xfrm>
            <a:off x="520560" y="240840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Rectangle 3"/>
          <p:cNvSpPr/>
          <p:nvPr/>
        </p:nvSpPr>
        <p:spPr>
          <a:xfrm>
            <a:off x="3009960" y="3772080"/>
            <a:ext cx="570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2" name="Picture 6" descr=""/>
          <p:cNvPicPr/>
          <p:nvPr/>
        </p:nvPicPr>
        <p:blipFill>
          <a:blip r:embed="rId1"/>
          <a:stretch/>
        </p:blipFill>
        <p:spPr>
          <a:xfrm>
            <a:off x="150840" y="5668920"/>
            <a:ext cx="524664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proces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9" name="Picture 4" descr=""/>
          <p:cNvPicPr/>
          <p:nvPr/>
        </p:nvPicPr>
        <p:blipFill>
          <a:blip r:embed="rId1"/>
          <a:stretch/>
        </p:blipFill>
        <p:spPr>
          <a:xfrm>
            <a:off x="1990800" y="2619360"/>
            <a:ext cx="1685880" cy="1571760"/>
          </a:xfrm>
          <a:prstGeom prst="rect">
            <a:avLst/>
          </a:prstGeom>
          <a:ln w="0">
            <a:noFill/>
          </a:ln>
        </p:spPr>
      </p:pic>
      <p:sp>
        <p:nvSpPr>
          <p:cNvPr id="3610" name="TextBox 3"/>
          <p:cNvSpPr/>
          <p:nvPr/>
        </p:nvSpPr>
        <p:spPr>
          <a:xfrm>
            <a:off x="5705640" y="480528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"/>
          <p:cNvSpPr txBox="1"/>
          <p:nvPr/>
        </p:nvSpPr>
        <p:spPr>
          <a:xfrm>
            <a:off x="5610240" y="2619360"/>
            <a:ext cx="29145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Labklājības ministrija</a:t>
            </a:r>
            <a:endParaRPr b="0" lang="en-US" sz="24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2" name="Rectangle 5"/>
          <p:cNvSpPr/>
          <p:nvPr/>
        </p:nvSpPr>
        <p:spPr>
          <a:xfrm>
            <a:off x="2181240" y="42195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3" name="Picture 10" descr=""/>
          <p:cNvPicPr/>
          <p:nvPr/>
        </p:nvPicPr>
        <p:blipFill>
          <a:blip r:embed="rId2"/>
          <a:stretch/>
        </p:blipFill>
        <p:spPr>
          <a:xfrm>
            <a:off x="4687920" y="1589040"/>
            <a:ext cx="1141560" cy="1116000"/>
          </a:xfrm>
          <a:prstGeom prst="rect">
            <a:avLst/>
          </a:prstGeom>
          <a:ln w="0">
            <a:noFill/>
          </a:ln>
        </p:spPr>
      </p:pic>
      <p:pic>
        <p:nvPicPr>
          <p:cNvPr id="3614" name="Picture 11" descr=""/>
          <p:cNvPicPr/>
          <p:nvPr/>
        </p:nvPicPr>
        <p:blipFill>
          <a:blip r:embed="rId3"/>
          <a:stretch/>
        </p:blipFill>
        <p:spPr>
          <a:xfrm>
            <a:off x="4687920" y="397368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3615" name="Straight Arrow Connector 9"/>
          <p:cNvCxnSpPr/>
          <p:nvPr/>
        </p:nvCxnSpPr>
        <p:spPr>
          <a:xfrm flipV="1">
            <a:off x="3743280" y="2418840"/>
            <a:ext cx="838800" cy="5292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6" name="Straight Arrow Connector 16"/>
          <p:cNvCxnSpPr/>
          <p:nvPr/>
        </p:nvCxnSpPr>
        <p:spPr>
          <a:xfrm>
            <a:off x="3676680" y="3886200"/>
            <a:ext cx="867600" cy="5342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7" name="Straight Arrow Connector 22"/>
          <p:cNvCxnSpPr/>
          <p:nvPr/>
        </p:nvCxnSpPr>
        <p:spPr>
          <a:xfrm>
            <a:off x="5238360" y="2847960"/>
            <a:ext cx="1080" cy="9626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soļ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752040" y="1343160"/>
            <a:ext cx="7448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retendent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jas LM Pasākuma dalībnieku reģistr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sakās ALTUM granta finansējuma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esniedzot pieteikuma dokumentus ALTUM reģionālajā centrā vai konsultāciju biroj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zvērtē iesniegtos dokument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zvērtē biznesa plānu, atbilstību komercdarbības atbalsta nosacījumiem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ņem  lēmumu par granta finansējuma  piešķiršan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un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oslēdz Granta līgum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biznesa projekta īstenošana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20" name="Down Arrow 4"/>
          <p:cNvSpPr/>
          <p:nvPr/>
        </p:nvSpPr>
        <p:spPr>
          <a:xfrm>
            <a:off x="4305240" y="202896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Down Arrow 8"/>
          <p:cNvSpPr/>
          <p:nvPr/>
        </p:nvSpPr>
        <p:spPr>
          <a:xfrm>
            <a:off x="4305240" y="349560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Down Arrow 9"/>
          <p:cNvSpPr/>
          <p:nvPr/>
        </p:nvSpPr>
        <p:spPr>
          <a:xfrm>
            <a:off x="4305240" y="5162400"/>
            <a:ext cx="466920" cy="209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TextBox 1"/>
          <p:cNvSpPr/>
          <p:nvPr/>
        </p:nvSpPr>
        <p:spPr>
          <a:xfrm>
            <a:off x="324000" y="11988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800" spc="-1" strike="noStrike">
                <a:solidFill>
                  <a:srgbClr val="ffffff"/>
                </a:solidFill>
                <a:latin typeface="Century Gothic"/>
              </a:rPr>
              <a:t>Konsultācijas un apkalpošana visā Latvij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4" name="Picture 2" descr=""/>
          <p:cNvPicPr/>
          <p:nvPr/>
        </p:nvPicPr>
        <p:blipFill>
          <a:blip r:embed="rId2"/>
          <a:stretch/>
        </p:blipFill>
        <p:spPr>
          <a:xfrm>
            <a:off x="1422360" y="1125360"/>
            <a:ext cx="66229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TextBox 1"/>
          <p:cNvSpPr/>
          <p:nvPr/>
        </p:nvSpPr>
        <p:spPr>
          <a:xfrm>
            <a:off x="982800" y="1773360"/>
            <a:ext cx="74372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a pieteikuma dokumentu izvērtēša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u izsnieg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Ilona Beizītere, ALTUM Kredītu un garantiju 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      departamenta analītiķ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Iesniedzamie dokumenti ALTUM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7" name=""/>
          <p:cNvSpPr txBox="1"/>
          <p:nvPr/>
        </p:nvSpPr>
        <p:spPr>
          <a:xfrm>
            <a:off x="714240" y="1304640"/>
            <a:ext cx="76010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pieteikums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Biznesa plān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jāapraksta esošā un plānotā uzņēmējdarbība, iecerētais biznesa projekts, jāpamato nepieciešamais grants, tā izlietojums un apmēr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Naudas plūsm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parāda biznesa projekta ieviešanu finansiālā izteiksmē vismaz par 2-4 gadiem un demonstrē finansiālos rezultātus gan projekta ieviešanas laikā, gan pēc tā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ietekmes izvērtējum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biznesa projekta līmenī (par šo </a:t>
            </a: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zinumu sniedz LM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Citi dokument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atbilstoši projekta, uzņēmuma veidam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Biznesa plāns – plānotā projekta aprakst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9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Vispārīgā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ņēmuma apraksts un mērķ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4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Tirgus un konkurentu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5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realizācija un mārketing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6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ealizācijas apraksts, apjoms un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nepieciešamā finansējuma pamatojum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7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iski un problēma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8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 būtiska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a veidlapa būs pieejama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audas plūsma – projekta gaita finansiālā izteiksmē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1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32" name="Picture 1" descr=""/>
          <p:cNvPicPr/>
          <p:nvPr/>
        </p:nvPicPr>
        <p:blipFill>
          <a:blip r:embed="rId2"/>
          <a:stretch/>
        </p:blipFill>
        <p:spPr>
          <a:xfrm>
            <a:off x="270000" y="615960"/>
            <a:ext cx="876780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saņēmēja/ projekta dzīvotspējas izvērtējum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4" name=""/>
          <p:cNvSpPr txBox="1"/>
          <p:nvPr/>
        </p:nvSpPr>
        <p:spPr>
          <a:xfrm>
            <a:off x="301680" y="1257480"/>
            <a:ext cx="82994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Biznesa dzīvotspēj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izvērtē noteiktus finanšu analīzes kritērijus, pamatojoties uz klienta iesniegto naudas plūsmu, biznesa plānā norādīto informāciju par projekta realizācij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Finanšu izvērtējum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ada pārskatu vai ienākumu deklarāciju izvērtēšan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vai nav nonācis grūtībās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VID nodokļu nomaksa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Uzņēmuma un 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Uzsācēju gadījumā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priekšējā pieredz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Līdzdalība projekt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spēja ieguldīt savus līdzekļus vai piesaistīt līdzfinansē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rivātpersonas, ārējs finansējums, bankas aizdevums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Citas pārbaude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-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saistītās personas, politiski nozīmīgās personas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izsniegšanas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6" name=""/>
          <p:cNvSpPr txBox="1"/>
          <p:nvPr/>
        </p:nvSpPr>
        <p:spPr>
          <a:xfrm>
            <a:off x="394920" y="1247400"/>
            <a:ext cx="8177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us izsniedz tikai mērķiem, kas norādīti Granta līgum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zmaksas saskaņā ar Granta līguma nosacījum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a izsniegšanas veidi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1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Rēķinu apmaks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līdzekļu pārskaitījumi uz preču piegādātāja/ pakalpojumu sniedzēja kontu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iesniedzamie dokumenti: </a:t>
            </a:r>
            <a:r>
              <a:rPr b="1" i="1" lang="lv-LV" sz="1800" spc="-1" strike="noStrike">
                <a:solidFill>
                  <a:srgbClr val="00467f"/>
                </a:solidFill>
                <a:latin typeface="Century Gothic"/>
              </a:rPr>
              <a:t>rēķini, līgumi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, ja apmaksā pakalpojumu, pērk ražošanas iekārtu, preci gatavo pēc pasūt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eikto izmaksu kompensācij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ret pamatojošiem rēķiniem, līgumiem,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apildu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aksājumu uzdev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konta izraksti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avans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pgrozāmiem līdzekļ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nelieliem maksājumiem, dokumenti jāiesniedz pēc izmaksām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skaite par izlieto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ievienojot rēķinus, līgumus, maksājumu uzdevumus, kontu izrakstus, čekus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Darba alg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lgu sarak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darba līgumi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ākamiem maksājumiem: maksājumu uzdevumi, kontu izraksti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nosacījumu uzraudzīb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8" name=""/>
          <p:cNvSpPr txBox="1"/>
          <p:nvPr/>
        </p:nvSpPr>
        <p:spPr>
          <a:xfrm>
            <a:off x="542880" y="1419120"/>
            <a:ext cx="7810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LTUM nodrošina atbalstītā biznesa projekta uzraudzību projekta īstenošanas periodā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u uzskata par realizētu, ja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i izlietoti atbilstoši Granta līgumā norādītajam mērķi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ņēmums darbojas atbilstoši biznesa plānā noteiktaja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izlietojuma atskaite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pēc biznesa projekta apguve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jānorāda projekta faktiskās kopējās izmaksas, t.sk., savs līdzfinansējums, izmaksu sadalījums pa posteņiem, sasniegtie saimnieciskie un sociālās ietekmes rādītāj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eatbilstība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ja konstatē Granta līguma nosacījumu īstenošanas neatbilstības, ALTUM nepieciešamības gadījumā prasa skaidrojumus vai situācijas labošanu, lemj par izmaksātā granta daļēju vai pilnīgu atmaksas pieprasījum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Rectangle 11"/>
          <p:cNvSpPr/>
          <p:nvPr/>
        </p:nvSpPr>
        <p:spPr>
          <a:xfrm>
            <a:off x="762120" y="4133880"/>
            <a:ext cx="733716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A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Kredītu garanti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Riska kapitā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Nefinanšu: konsultācijas, mento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f497d"/>
                </a:solidFill>
                <a:latin typeface="Century Gothic"/>
                <a:ea typeface="Times New Roman"/>
              </a:rPr>
              <a:t>ALTUM atbalsta </a:t>
            </a:r>
            <a:r>
              <a:rPr b="1" lang="lv-LV" sz="2000" spc="-1" strike="noStrike" u="sng">
                <a:solidFill>
                  <a:srgbClr val="1f497d"/>
                </a:solidFill>
                <a:uFillTx/>
                <a:latin typeface="Century Gothic"/>
                <a:ea typeface="Times New Roman"/>
              </a:rPr>
              <a:t>ekonomiski pamatotus un dzīvotspējīgus biznesa projekt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TextBox 1"/>
          <p:cNvSpPr/>
          <p:nvPr/>
        </p:nvSpPr>
        <p:spPr>
          <a:xfrm>
            <a:off x="571680" y="149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Par 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Rectangle 43"/>
          <p:cNvSpPr/>
          <p:nvPr/>
        </p:nvSpPr>
        <p:spPr>
          <a:xfrm>
            <a:off x="4670280" y="2362320"/>
            <a:ext cx="2851200" cy="676080"/>
          </a:xfrm>
          <a:prstGeom prst="rect">
            <a:avLst/>
          </a:prstGeom>
          <a:solidFill>
            <a:srgbClr val="004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V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Rectangle 44"/>
          <p:cNvSpPr/>
          <p:nvPr/>
        </p:nvSpPr>
        <p:spPr>
          <a:xfrm>
            <a:off x="1371600" y="3146400"/>
            <a:ext cx="3054240" cy="663480"/>
          </a:xfrm>
          <a:prstGeom prst="rect">
            <a:avLst/>
          </a:prstGeom>
          <a:solidFill>
            <a:srgbClr val="ca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Lauksaimniek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Rectangle 45"/>
          <p:cNvSpPr/>
          <p:nvPr/>
        </p:nvSpPr>
        <p:spPr>
          <a:xfrm>
            <a:off x="4670280" y="3146400"/>
            <a:ext cx="2851200" cy="663480"/>
          </a:xfrm>
          <a:prstGeom prst="rect">
            <a:avLst/>
          </a:prstGeom>
          <a:solidFill>
            <a:srgbClr val="6bc2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edzīvotā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Rectangle 46"/>
          <p:cNvSpPr/>
          <p:nvPr/>
        </p:nvSpPr>
        <p:spPr>
          <a:xfrm>
            <a:off x="1371600" y="2362320"/>
            <a:ext cx="3054240" cy="676080"/>
          </a:xfrm>
          <a:prstGeom prst="rect">
            <a:avLst/>
          </a:prstGeom>
          <a:solidFill>
            <a:srgbClr val="00a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znes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zsācē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Taisnstūris 1"/>
          <p:cNvSpPr/>
          <p:nvPr/>
        </p:nvSpPr>
        <p:spPr>
          <a:xfrm>
            <a:off x="466560" y="13622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lstij piederoša attīstības finanšu institūcija, kas papildina privātā finanšu tirgus piedāvāju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ALTUM un sociālie uzņēmumi –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 ir piemēri!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0" name="Rectangle 2"/>
          <p:cNvSpPr/>
          <p:nvPr/>
        </p:nvSpPr>
        <p:spPr>
          <a:xfrm>
            <a:off x="314280" y="1333440"/>
            <a:ext cx="850104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Mīksto rotaļlietu ražo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iepāj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Uzņēmums nodarbina cilvēkus n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Liepāja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redzīgo biedrīb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2012.g. -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izdevu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kārtām rotaļlietu ražošanai, telp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īkojumam, apgrozāmiem līdzekļi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Specializētā transporta pakalpoj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cilvēkiem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r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īpašām vajadzīb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kustību, redzes traucējum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ēc operācijām utml.)- vizītes pie ārstiem, atpūta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zglītības pasākumu apmeklēju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2 piemēr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Rīgā, Code)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Šve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ikrokreditēšanas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aizdevumi speciāl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transporta iegādei (2012. un 2013.g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1" name="Picture 2" descr="C:\Users\andrejs.buharins\Documents\78748.jpg"/>
          <p:cNvPicPr/>
          <p:nvPr/>
        </p:nvPicPr>
        <p:blipFill>
          <a:blip r:embed="rId1"/>
          <a:stretch/>
        </p:blipFill>
        <p:spPr>
          <a:xfrm>
            <a:off x="5429160" y="1400040"/>
            <a:ext cx="2809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2" name="Picture 2" descr="C:\Users\andrejs.buharins\AppData\Local\Microsoft\Windows\INetCache\Content.Outlook\CWR7DW9Z\186 (2) (6).jpg"/>
          <p:cNvPicPr/>
          <p:nvPr/>
        </p:nvPicPr>
        <p:blipFill>
          <a:blip r:embed="rId2"/>
          <a:stretch/>
        </p:blipFill>
        <p:spPr>
          <a:xfrm>
            <a:off x="399960" y="3781440"/>
            <a:ext cx="209556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TextBox 1"/>
          <p:cNvSpPr/>
          <p:nvPr/>
        </p:nvSpPr>
        <p:spPr>
          <a:xfrm>
            <a:off x="895320" y="895320"/>
            <a:ext cx="72057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36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andrejs.buharins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Ilona.beizitere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</a:rPr>
              <a:t>www.altu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4" name="Picture 2" descr=""/>
          <p:cNvPicPr/>
          <p:nvPr/>
        </p:nvPicPr>
        <p:blipFill>
          <a:blip r:embed="rId1"/>
          <a:stretch/>
        </p:blipFill>
        <p:spPr>
          <a:xfrm>
            <a:off x="3220920" y="3860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645" name="Picture 3" descr=""/>
          <p:cNvPicPr/>
          <p:nvPr/>
        </p:nvPicPr>
        <p:blipFill>
          <a:blip r:embed="rId2"/>
          <a:stretch/>
        </p:blipFill>
        <p:spPr>
          <a:xfrm>
            <a:off x="4221000" y="3860640"/>
            <a:ext cx="578160" cy="579600"/>
          </a:xfrm>
          <a:prstGeom prst="rect">
            <a:avLst/>
          </a:prstGeom>
          <a:ln w="0">
            <a:noFill/>
          </a:ln>
        </p:spPr>
      </p:pic>
      <p:pic>
        <p:nvPicPr>
          <p:cNvPr id="3646" name="Picture 4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57960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47840" y="115560"/>
            <a:ext cx="8588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Finanšu atbalsts sociāliem uzņēmumiem 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(2017 – 2022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1" name="Title 2"/>
          <p:cNvSpPr/>
          <p:nvPr/>
        </p:nvSpPr>
        <p:spPr>
          <a:xfrm>
            <a:off x="558720" y="1343160"/>
            <a:ext cx="78138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12 milj</a:t>
            </a:r>
            <a:r>
              <a:rPr b="0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. </a:t>
            </a: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EUR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- kopējais finansējum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programmas ietva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200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plānotais atbalstīto sociālo uzņēmumu ska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            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(+ 20 – uzsācēji/ LM ideju konkursa uzvarētā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ALTUM – LM sadarbības partneri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grantu administrēšan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 pieteikumu/ biznesa plānu pieņemšana, izvērtēšana,  atbalsta piešķirš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izsniegtā atbalsta uzraudzība, kontrole, atbalsta saņēmēju datu iegūšana un iesniegšana 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2017.g. maijs/ jūnij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ovizoriskais lai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finanšu atbalsta uzsākšan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(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iekšdarb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: MK noteikumu Nr.467 grozījumu apstiprināšana/ LM un ALTUM iekšējās procedūras/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LM reģistra darbības uzsāk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Rectangle 1"/>
          <p:cNvSpPr/>
          <p:nvPr/>
        </p:nvSpPr>
        <p:spPr>
          <a:xfrm>
            <a:off x="426240" y="115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pretend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Taisnstūris 2"/>
          <p:cNvSpPr/>
          <p:nvPr/>
        </p:nvSpPr>
        <p:spPr>
          <a:xfrm>
            <a:off x="895320" y="1380960"/>
            <a:ext cx="72658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 atbalstu var pretendē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biedrības, nodibinājumi un komersanti (SIA, AS), kuri atbilst noteiktajiem sociālo uzņēmumu kritērijiem un ir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ti LM Pasākumu dalībnieku reģistr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uzņēmējdarbības uzsācēj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fiziskas personas, kuras plāno uzsākt sociālo uzņēmējdarbību, ir piedalījušās/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varējušas LM rīkotā ideju konkurs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u atbalsts paredzēts dzīvotspējīgu un ilgtspējīgu sociālo uzņēmumu biznesa projektu īstenošana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(</a:t>
            </a:r>
            <a:r>
              <a:rPr b="1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s nav pabalsts!</a:t>
            </a: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Rectangle 1"/>
          <p:cNvSpPr/>
          <p:nvPr/>
        </p:nvSpPr>
        <p:spPr>
          <a:xfrm>
            <a:off x="449640" y="11592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āmās izmak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Taisnstūris 2"/>
          <p:cNvSpPr/>
          <p:nvPr/>
        </p:nvSpPr>
        <p:spPr>
          <a:xfrm>
            <a:off x="914400" y="1751040"/>
            <a:ext cx="72468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Ilgtermiņa ieguldīj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av ierobežojumu uz ieguldījumu veidiem, var finansēt arī nemateriālos ieguldījumu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grozāmie līdzekļ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mācību/ konsultāciju 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Darba alg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6" name="Picture 5" descr="http://www1.basket.lv/images/u/7b/survey_checklist_r_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4960" y="4613400"/>
            <a:ext cx="114300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Rectangle 1"/>
          <p:cNvSpPr/>
          <p:nvPr/>
        </p:nvSpPr>
        <p:spPr>
          <a:xfrm>
            <a:off x="437760" y="115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ozaru ierobežoju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Taisnstūris 2"/>
          <p:cNvSpPr/>
          <p:nvPr/>
        </p:nvSpPr>
        <p:spPr>
          <a:xfrm>
            <a:off x="676440" y="1562040"/>
            <a:ext cx="729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u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tbalstu nepiešķir šādās nozarēs vai jomā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istemātisku darījumu veikšana ar vērtspapīriem, nekustamiem īpašumiem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izņemot telpu iznomāšanu/ izīrēšan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Finanšu un apdrošināšanas darb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prāgstvielu, ieroču, munīcijas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lkoholisko dzērienu, tabakas izstrādājumu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zartspēles, der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s jomas, kas apdraud sabiedrības drošību un veselī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9" name="Attēls 3" descr=""/>
          <p:cNvPicPr/>
          <p:nvPr/>
        </p:nvPicPr>
        <p:blipFill>
          <a:blip r:embed="rId2"/>
          <a:stretch/>
        </p:blipFill>
        <p:spPr>
          <a:xfrm>
            <a:off x="7686720" y="1247760"/>
            <a:ext cx="11145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Rectangle 1"/>
          <p:cNvSpPr/>
          <p:nvPr/>
        </p:nvSpPr>
        <p:spPr>
          <a:xfrm>
            <a:off x="464400" y="115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apmē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Taisnstūris 2"/>
          <p:cNvSpPr/>
          <p:nvPr/>
        </p:nvSpPr>
        <p:spPr>
          <a:xfrm>
            <a:off x="590400" y="1238400"/>
            <a:ext cx="786780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rantu apmērs no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īdz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0 tūkst.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tbalstu nosak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bilstoši uzņēmuma saimnieciskās darbības apmēram un darbības pieredz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ēķinātais atbals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pārsniedz 50% no pēdējo 3 gadu vidējā apgroz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v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ēdējo 3 gadu vidējā bilances vērtība x 1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Atbalsta aprēķinam izvēlas lielāko aprēķināto vērtīb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- maksimālais atbalst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jaundibināt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Pasākuma dalībniekiem/ uzsācēj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0 tūkst. EUR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– maksimālais atbalsts Pasākuma dalībniekiem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r darbības laiku līdz 3 gad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apildus grantam biznesa projekta īstenošanā atbalsta saņēmējam jāpiesaist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10% līdzfinansējum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savi resursi/ ārējs finansējums, kas nav komercdarbības atbal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Darba algas izmaksu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3" name=""/>
          <p:cNvSpPr txBox="1"/>
          <p:nvPr/>
        </p:nvSpPr>
        <p:spPr>
          <a:xfrm>
            <a:off x="395280" y="1456920"/>
            <a:ext cx="8045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Darba integrācijas uzņēmumiem (DIU)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10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uz visu biznesa projekta īstenošanas period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lāno nodarbināt vismaz 2 darbiniek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to skaits nav mazāks par: 1) 40% no ikgadējā vidējā darbinieku skaita, ja nodarbinās nelabvēlīgā situācijā esošus bezdarbniekus; 50% - ja nodarbinās personas ar invaliditāti, garīga rakstura traucējumiem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asākuma dalībniekiem, kuri nav DIU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8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uz 6 mēnešiem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nformāciju par vidējo darba samaksu profesijā ALTUM un Pasākuma dalībnieki var iegūt publiskās datu bāzē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4" name="Attēls 1" descr=""/>
          <p:cNvPicPr/>
          <p:nvPr/>
        </p:nvPicPr>
        <p:blipFill>
          <a:blip r:embed="rId1"/>
          <a:stretch/>
        </p:blipFill>
        <p:spPr>
          <a:xfrm>
            <a:off x="7515360" y="1123920"/>
            <a:ext cx="133344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Citi būtiski atbalsta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609480" y="1638360"/>
            <a:ext cx="76392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a īstenošanas periods –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tbalsta saņēmēj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r saņemt finanšu atbalstu vairāk nekā vienu reiz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ja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balstītais projekts ir sekmīgi realizēts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, ko apliecina par iepriekšējo biznesa projektu iesniegta atskaite, gada pārskats par pilnu gadu pēc projekta īstenošanas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r izpildīti visi iepriekšējā finanšu atbalsta līguma nosacījum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7" name="Attēls 1" descr=""/>
          <p:cNvPicPr/>
          <p:nvPr/>
        </p:nvPicPr>
        <p:blipFill>
          <a:blip r:embed="rId1"/>
          <a:stretch/>
        </p:blipFill>
        <p:spPr>
          <a:xfrm>
            <a:off x="6105600" y="4664160"/>
            <a:ext cx="2143080" cy="142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7:08:15Z</dcterms:created>
  <dc:creator>Aira Leite</dc:creator>
  <dc:description/>
  <dc:language>en-US</dc:language>
  <cp:lastModifiedBy>Sistēmas Windows lietotājs</cp:lastModifiedBy>
  <cp:lastPrinted>2017-01-31T07:32:04Z</cp:lastPrinted>
  <dcterms:modified xsi:type="dcterms:W3CDTF">2017-05-03T08:06:16Z</dcterms:modified>
  <cp:revision>253</cp:revision>
  <dc:subject/>
  <dc:title>PowerPoint Presentation</dc:title>
</cp:coreProperties>
</file>